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3E7C1220-3269-44B4-AE5E-36B903F4C00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8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Text Box 17"/>
          <p:cNvSpPr/>
          <p:nvPr/>
        </p:nvSpPr>
        <p:spPr>
          <a:xfrm>
            <a:off x="5029200" y="655308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/ </a:t>
            </a:r>
            <a:fld id="{132CC171-2D02-4AED-A8CF-C340083F99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rray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ssion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195DBE88-A28F-4209-8A37-6FA537313FC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Strings/Character Arrays-1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ring can be defined as a character type array, which is terminated by a null 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haracter in a string occupies one byte and the last character of a string is “\0” (Backslash ze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441440" y="3959280"/>
            <a:ext cx="7473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ary[5]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\n Enter string : “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anf(“%s”,ary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\n The string is %s \n\n”, ary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5; i++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\t%d”, ary[i]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3C95119E-C5BF-46F0-ABD6-2DEDED38C29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094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utput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2362320" y="2027160"/>
          <a:ext cx="640080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27160"/>
                    <a:ext cx="640080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685800" y="32162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put for the above is of 4 characters and the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haracter is the null 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Object 6"/>
          <p:cNvGraphicFramePr/>
          <p:nvPr/>
        </p:nvGraphicFramePr>
        <p:xfrm>
          <a:off x="1371600" y="4114800"/>
          <a:ext cx="632448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114800"/>
                    <a:ext cx="6324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7"/>
          <p:cNvSpPr/>
          <p:nvPr/>
        </p:nvSpPr>
        <p:spPr>
          <a:xfrm>
            <a:off x="91440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bove output is for an input of 5 charact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Strings/Character Arrays-2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7AAA1C7A-C4CD-4F84-9CD5-278F53E6DE2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457200" y="3124080"/>
          <a:ext cx="83059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83059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String Function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30556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range of string functions, which are found in the standard header file &lt;string.h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2EEC53D9-AF3D-44F9-AD05-C5710FC875E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Two-Dimensional Array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2170080"/>
            <a:ext cx="77724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implest and the most commonly used multi-dimensional array is the two - dimensional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wo-dimensional array can be thought of as an array of two single dimensional ar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wo-dimensional array looks like a table consisting of rows and colum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wo–dimensional array is declared as 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t temp[4][3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97C2E083-9538-4D10-AE75-33159B8750C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28600" y="3352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ult of the above assignment will be as follow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Object 5"/>
          <p:cNvGraphicFramePr/>
          <p:nvPr/>
        </p:nvGraphicFramePr>
        <p:xfrm>
          <a:off x="380880" y="4267080"/>
          <a:ext cx="84582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267080"/>
                    <a:ext cx="84582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nitialization of Multidimensional Arrays-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ary[3][4]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1,2,3,4,5,6,7,8,9,10,11,12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4E5E3AC2-CF4D-4EC7-A0B8-F39CEFF4A55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ary[3][4]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1,2,3}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4,5,6}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7,8,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nitialization of Multidimensional Arrays-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CFD854D0-4993-4783-88E5-6F8B9CD41EC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sult of the assignment will be as follow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380880" y="2895480"/>
          <a:ext cx="792504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792504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380880" y="43592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wo - dimensional string array is declared in the following mann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371600" y="5410080"/>
            <a:ext cx="723888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har str_ary[25][80];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nitialization of Multidimensional Arrays-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D00FCC8C-DF4A-42CF-B979-32CC75973E0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wo-Dimensional Array-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457200" y="1914840"/>
            <a:ext cx="753732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ring.h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 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 n = 0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tem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x[10][12]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temp[12]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rscr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Enter each string on a separate line\n\n”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Type ‘END’ when over \n\n”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read in the list of strings *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String %d : ”, n+1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anf(“%s”, x[n]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while (strcmp(x[n++], “END”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reorder the list of strings *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ontd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5791320" y="2438280"/>
            <a:ext cx="2819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7412295E-460B-4B8A-ADDE-F660CAD1D47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219320" y="1781280"/>
            <a:ext cx="77724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 = n – 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for(item=0; item&lt;n-1; ++ite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find lowest of remaining strings *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(i=item+1; i&lt;n; ++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strcmp (x[item], x[i]) &gt; 0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interchange two stings *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cpy (temp, x[item]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cpy (x[item], x[i]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cpy (x[i], temp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Display the arranged list of strings *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Recorded list of strings : \n”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(i = 0; i &lt; n ; ++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\nString %d is %s", i+1, x[i]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wo-Dimensional Array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095880" y="2286000"/>
            <a:ext cx="2819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EA2094AD-FF17-4BF7-A860-D667ECAC3A1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901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array elements and ind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n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array handling in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how an array is initi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string / character ar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two dimensional ar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ization of two dimensional ar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4202C934-A023-4C66-AA5A-4C2FE6F8D8D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2901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rray Elements &amp; Ind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ember of an array is identified by unique index or subscript assigned t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mension of an array is determined by the number of indices needed to uniquely identify each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dex is a positive integer enclosed in [ ] placed immediately after the array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dex holds integer values starting with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with 11 elements will look like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layer[0], player[1], player[2],…. Player[10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621B5B68-2396-4477-8CA3-AAEB1B380FD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87240" y="1565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7240" y="23781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Defining an Array-1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rray has some particular characteristics and has to be defined with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characteristics include 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torage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Data Types of the elements in the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Array Na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indicates the location of the first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member of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Array Si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tant evaluating to a +ve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03B8834E-A37F-4AF7-8915-C1FDFA64A02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Defining an Array-2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rray is defined in the same way as a variable is defined. The only change is that  the array name is followed by one or mo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essions, enclosed within square brackets [], specifying the array dimen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orage_Class   data_types   array_name[siz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e4a8"/>
                </a:solidFill>
                <a:latin typeface="Tahoma"/>
              </a:rPr>
              <a:t>int player[11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773BDC4C-1805-446B-9B06-8B46B1E6202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Norms with Array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6560" indent="-46656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elements of an array are of the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6560" indent="-46656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lement of an array can be used wherever a variable is allowed or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6560" indent="-46656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lement of an array can be referenced using a variable or an integer 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6560" indent="-46656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s can have their data types li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, char, float or dou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45D97BAA-F12B-4FE5-BA74-09A3C282225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17400" y="2149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rray Handling in C-1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rray is treated differently from a variable in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arrays, even if they are of the same type and size cannot be tested for e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 is not possible to assign one array directly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cannot be assigned to an array on the whole, instead values are assigned to the elements of the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92FDDBC2-895A-49DA-9682-BABB27DB06D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rray Handling in C-2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219320" y="2079360"/>
            <a:ext cx="8381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</a:rPr>
              <a:t>/* Input values are accepted from the user into the array ary[10]*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ary[10]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 i, total, high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=0; i&lt;10; i++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f(“\n Enter value: %d : ”, i+1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anf(“%d”,&amp;ary[i]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Displays highest of the entered values *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igh = ary[0]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=1; i&lt;10; i++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(ary[i] &gt; hig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igh = ary[i]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f(“\nHighest value entered was %d”, high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s average of values entered for ary[10] *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=0,total=0; i&lt;10; i++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otal = total + ary[i]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f(“\nThe average of the elements of ary is %d”,total/i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3276720" y="64008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7/ </a:t>
            </a:r>
            <a:fld id="{EFBF44E0-BFAB-47BE-B516-685A1DE9CAF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8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2901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rray Initializa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143000" y="5791320"/>
            <a:ext cx="7543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1219320" y="1981080"/>
            <a:ext cx="7391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element of an Automatic array needs to be initialized separat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ollowing example the array elements have been assigned valued using th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f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200240" y="563868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ase of extern and static arrays, the elements are automatically initialized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914400" y="3044880"/>
            <a:ext cx="8229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alpha[26]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(i=65,j=0; i&lt;91; i++,j++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pha[j] = i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The character now assigned is %c \n”, alpha[j]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char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6T17:24:09Z</dcterms:created>
  <dc:creator>ASHU</dc:creator>
  <dc:description/>
  <dc:language>en-US</dc:language>
  <cp:lastModifiedBy>Windows User</cp:lastModifiedBy>
  <dcterms:modified xsi:type="dcterms:W3CDTF">2016-08-08T10:31:52Z</dcterms:modified>
  <cp:revision>205</cp:revision>
  <dc:subject/>
  <dc:title>PowerPoint Presentation</dc:title>
</cp:coreProperties>
</file>