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08FE2-EF30-4932-A9D2-4C1424E6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0D2EB-8800-4250-829F-117E9996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74771-B95F-4916-8F78-7E4CBBC8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8DCAF-3A90-465D-BD40-408EF69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A449D-B0BE-4C98-8AD5-A90E8644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92258-F4BF-40D7-AF78-A956F5CF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0B33C-46BF-479D-8E8E-4661C69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47083-5745-4AD3-AB3A-71F6FB5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65B3D-F717-4F0D-8773-D887CBCF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15B20-89F7-40AC-834B-1220FED1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46074-7E7E-4277-A562-5704F4EF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38BF3-CDCD-4CD5-873F-45F7652F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4800600" y="63244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8/ </a:t>
            </a:r>
            <a:fld id="{79CCBA92-FE87-43EA-BF42-1AA3004438E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3CC4-167B-4462-A8AD-085946453D6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oin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B1E38FBA-25BD-4634-8154-5A371DB1D8AC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685800" y="1905120"/>
          <a:ext cx="792468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92468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387360" y="403056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time a pointer is incremented, it points to the memory location of the next element of its base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52440" y="480060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time it is decremented it points to the location of the previous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57120" y="5554800"/>
            <a:ext cx="848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ther pointers will increase or decrease depending on the length of the data type they are pointing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981080" y="928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 Arithmetic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AD289E7B-F1A2-4A4C-B7E8-75D8CD510BE7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447920" y="928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 Comparison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90512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wo pointers can be compared in a relational expression provided both the pointers  are pointing to variables of the sam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4920" y="2743200"/>
            <a:ext cx="844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der that ptr_a and ptr_b are 2 pointer variables, which point to data elements a and b. In this case the following comparisons are  possibl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6"/>
          <p:cNvGraphicFramePr/>
          <p:nvPr/>
        </p:nvGraphicFramePr>
        <p:xfrm>
          <a:off x="762120" y="3809880"/>
          <a:ext cx="8001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9880"/>
                    <a:ext cx="8001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19A21D44-1E22-4802-9C65-4E58A7D8C85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990720" y="196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and Single Dimensional Array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2362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ddress of an array element can be expressed in two way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14400" y="3352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008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writing the actual array element preceded by the ampersand sign (&amp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914400" y="47242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008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writing an expression in which the subscript is added to the array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9989F84F-9478-4684-8AC9-18F9CB466FD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37160" y="2363400"/>
            <a:ext cx="8364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int ary[10] = {1, 2, 3, 4, 5, 6, 7, 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10; i 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i=%d,aryi]=%d,*(ary+i)=%d“,i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y[i],*(ary + i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&amp;ary[i]= %X,ary+i=%X”,&amp;ary[i],ary+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401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X gives unsigned hexadecimal 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990720" y="196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and Single Dimensional Arrays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324480" y="21938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FC267379-440F-406F-AA61-4D29D731986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Object 9"/>
          <p:cNvGraphicFramePr/>
          <p:nvPr/>
        </p:nvGraphicFramePr>
        <p:xfrm>
          <a:off x="380880" y="2590920"/>
          <a:ext cx="86108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90920"/>
                    <a:ext cx="86108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13"/>
          <p:cNvSpPr/>
          <p:nvPr/>
        </p:nvSpPr>
        <p:spPr>
          <a:xfrm>
            <a:off x="990720" y="196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and Single Dimensional Arrays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3581280" y="204156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84FF3987-34C7-4EA4-A173-5964F223941B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25560" y="196920"/>
            <a:ext cx="821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and Multi Dimensional Array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57200" y="2286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wo-dimensional array can be defined as a pointer to a group of  contiguous one-dimensional 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85480" y="3352680"/>
            <a:ext cx="82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wo-dimensional array declaration can be written a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33400" y="48006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ead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40960" y="4006800"/>
            <a:ext cx="64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data_type  (*ptr_var) [expr 2]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722520" y="54864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data_type (*ptr_var) [expr1] [expr 2]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A0AA3F01-8981-4A94-A009-9E27DE8F2CB7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219320" y="928800"/>
            <a:ext cx="78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and String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304920" y="1981440"/>
            <a:ext cx="8534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main 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a, str[81], *pt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Enter a sentence:”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s(st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Enter character to search for:”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getch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 = strchr(str,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 return pointer to char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 “\nString starts at address: %u”,st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First occurrence of the character is at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ress: %u ”,pt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 Position of first occurrence(starting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)is: % d”, ptr_st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6324480" y="21938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825A5703-4973-48B2-9634-74812172F730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1295280" y="2900520"/>
          <a:ext cx="7162920" cy="25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00520"/>
                    <a:ext cx="7162920" cy="25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9"/>
          <p:cNvSpPr/>
          <p:nvPr/>
        </p:nvSpPr>
        <p:spPr>
          <a:xfrm>
            <a:off x="1219320" y="928800"/>
            <a:ext cx="78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and Strings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581280" y="204156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ED7C7DF6-3F66-4BB5-A9FA-83A18A451ED6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447920" y="9288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cating Memory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85800" y="2362320"/>
            <a:ext cx="76201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lloc(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unction is one of the most commonly used functions which permit allocation of memory from the pool of free memory. The parameter f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lloc(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n integer that specifies the number of bytes neede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0BBDD6AD-1880-4757-A07E-FABECF3CB3C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1"/>
          <a:srcRect l="1339" t="14416" r="6351" b="2199"/>
          <a:stretch/>
        </p:blipFill>
        <p:spPr>
          <a:xfrm>
            <a:off x="990720" y="2238480"/>
            <a:ext cx="6705360" cy="41878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4278240" y="21337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447920" y="9288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cating Memory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99BD3DA5-9FD1-4E8E-B19C-A249E79FE7B0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438280" y="92880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1981080"/>
            <a:ext cx="830556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what a pointer is and where it is us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how to use pointer variables and pointer operat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Assign values to poin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pointer arithmeti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pointer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pointers and single dimensional arra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Pointer and multidimensional arra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spcBef>
                <a:spcPts val="814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how allocation of memory takes pl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F0D5380B-EF04-4A01-BC6A-A792A18C0E07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219320" y="928800"/>
            <a:ext cx="75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free()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99320" y="2208240"/>
            <a:ext cx="85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function can be used t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de-allocates (frees)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when it is no longer nee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75560" y="3597480"/>
            <a:ext cx="7943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e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function deallocates the space pointed to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eeing it up for future use.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ust have been used in a previous call to malloc(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lloc(), or realloc(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35400" y="312588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92CB819E-75F2-4D72-BE87-F797E9A72916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16080" y="1861560"/>
            <a:ext cx="8827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stdlib.h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required for the malloc and free functions*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*pt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How many ints would you like stor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 = (int *) malloc (number*sizeof(int))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allocate memory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tr!=NULL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=0 ; i&lt;number 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ptr+i)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070760" y="605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681960" y="60148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d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031080" y="297180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219320" y="928800"/>
            <a:ext cx="75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free()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A848D228-46E9-42A3-9DE1-A36CF2CBED65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2082960"/>
            <a:ext cx="6782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=number ; i&gt;0 ; i--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%d\n",*(ptr+(i-1)))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 print out in reverse order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ee(ptr)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 free allocated memory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Memory allocation failed - not enough memory.\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335640" y="19810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219320" y="928800"/>
            <a:ext cx="755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free()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BBCE19C9-02E1-409D-8583-E5C16CEA79C5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3880" y="928800"/>
            <a:ext cx="587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calloc()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36080" y="2132280"/>
            <a:ext cx="91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llo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similar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but the main difference is that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s stored in the allocated memory space is zero by defaul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1280" y="3199320"/>
            <a:ext cx="89175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llo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requires two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st is the number of variables you'd like to allocate memory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cond is the size of each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*calloc(int,i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0FBB7AAF-3D85-45F4-9A44-B01C21BFB91B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09480" y="2239200"/>
            <a:ext cx="830592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clude &lt;stdlib.h&gt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 *calloc1, *calloc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oc1 = (float *) calloc(3, sizeof(float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oc2 = (float *)calloc(3, sizeof(float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calloc1!=NULL &amp;&amp; calloc2!=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=0 ; i&lt;3 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calloc1[%d] holds %05.5f ", i, calloc1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\ncalloc2[%d] holds %05.5f ", i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calloc2+i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497560" y="20257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590160" y="630864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d…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523880" y="928800"/>
            <a:ext cx="587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calloc()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A07E1ABB-4104-46AD-AE5D-A4720D17893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43000" y="219384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ee(calloc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ee(calloc2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Not enough memory\n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523880" y="928800"/>
            <a:ext cx="587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calloc()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497560" y="20257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77CDEF92-3F58-4D44-80DD-17DD042B0598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523880" y="928800"/>
            <a:ext cx="587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realloc()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9480" y="2056320"/>
            <a:ext cx="815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You've allocated a certain number of bytes for an array but later find that you want to add values to it.You could copy everything into a larger array, which is inefficient, or you can allocate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ytes us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allo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without losing your da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555120" y="3701160"/>
            <a:ext cx="8145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allo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takes two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st is the pointer referencing the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cond is the total number of bytes you want to reallo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572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*realloc( void *ptr, size_t size 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75B2046E-6234-479D-A16C-CB6FD04827F0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316160" y="2005200"/>
            <a:ext cx="698976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#include&lt;stdio.h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 *pt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tr = (int *)calloc(5, sizeof(int *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(ptr!=NULL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*ptr = 1;  *(ptr+1) =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tr[2] = 4;  ptr[3] = 8;  ptr[4] = 16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tr = (int *)realloc(ptr, 7*sizeof(int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f(ptr!=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f("Now allocating more memory... \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tr[5] = 32;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/* now it's legal! </a:t>
            </a:r>
            <a:r>
              <a:rPr b="0" i="1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tr[6] = 64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3880" y="928800"/>
            <a:ext cx="587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realloc()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497560" y="20257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41B01FBC-901C-4A1F-BEFC-C1B85E533BB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295280" y="198108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(i=0 ; i&lt;7 ; i++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f("ptr[%d] holds %d\n", i, ptr[i]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alloc(ptr,0);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/* same as free(ptr); - just fancier! *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f("Not enough memory - realloc failed.\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f("Not enough memory - calloc failed.\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523880" y="928800"/>
            <a:ext cx="587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realloc()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016680" y="202572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27D13341-1728-4A78-9F0F-5F8997E8E878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981080" y="9288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a Pointer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33440" y="2057400"/>
            <a:ext cx="825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pointer is a variable, which contains the address of a memory location of another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one variable contains the address of another variable, the first variable is said to point to the second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4038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pointer provides an indirect method of accessing the value of a data 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4952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s can point to variables of other fundamental data types like int, char, or double or data aggregates like arrays or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84C862FA-154B-479C-B14B-91C2A0AB861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079640" y="99072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Pointers used for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6400" y="2147760"/>
            <a:ext cx="86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situations where pointers can be used are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73560" y="2827440"/>
            <a:ext cx="70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turn more than one value from a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38080" y="33480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pass arrays and strings more conveniently from one function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99040" y="4233960"/>
            <a:ext cx="84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manipulate arrays easily by moving pointers to th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ead of moving the arrays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38080" y="512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llocate memory and access i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Direct Memory Allo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F119272B-8472-4C27-907C-2D7EBEF2120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2133720" y="9288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 Variab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3520" y="2362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pointer declaration consists of a base type and a variable  name preceded by a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44640" y="3581280"/>
            <a:ext cx="48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l declaration syntax i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101240" y="487692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356280" y="40892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ype *name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371760" y="53085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t *var2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102D2AE9-23FD-4428-B7FE-D696B0D76D8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057400" y="9288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 Operato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810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are 2 special operators which are used with  pointer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80880" y="31240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&amp; operator is a unary operator and it returns the memory address of the ope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57200" y="45720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cond operato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omplement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It is a unary operator and returns the value contained in the memory location pointed to by the pointer variable’s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692520" y="249552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2904120" y="24066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741560" y="2558880"/>
            <a:ext cx="4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2785680" y="3824280"/>
            <a:ext cx="31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var2 = &amp;var1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853720" y="571500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temp = *var2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DAB75D7A-1C3C-486A-AC8A-C3DF114B1EFB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838080" y="228600"/>
            <a:ext cx="79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ssigning Values To Pointer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9080" y="2208240"/>
            <a:ext cx="88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s can be assigned to pointers through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perator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-9720" y="3808440"/>
            <a:ext cx="82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re the address of var is stored in the variable ptr_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52280" y="4299120"/>
            <a:ext cx="885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so possible to assign values to pointers through another pointer variable pointing to a data item of the same dat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442240" y="28386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tr_var = &amp;var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2386800" y="51498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tr_var = &amp;var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367000" y="57150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tr_var2 = ptr_var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3A7A124A-C998-444D-A444-BC97B19155C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066680" y="1522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ssigning Values To Pointers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04920" y="2362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riables can be assigned values through their pointers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80880" y="5029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ove declaration will assign 10 to the variable var if ptr_var points to v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111840" y="36259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imes New Roman"/>
              </a:rPr>
              <a:t>*p= 10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8/ </a:t>
            </a:r>
            <a:fld id="{DE943A13-BE9F-4B40-8AE0-55C15CEDC94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981080" y="928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 Arithmetic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2049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tion and subtraction are the only operations that can be performed on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2895480" y="2895480"/>
          <a:ext cx="3691080" cy="14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69108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6"/>
          <p:cNvSpPr/>
          <p:nvPr/>
        </p:nvSpPr>
        <p:spPr>
          <a:xfrm>
            <a:off x="533520" y="4282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us assume tha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stored at the addre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33520" y="52135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ptr_var has the value 1000 stored in it. Since integers are 2   bytes long, after the expression “ptr_var++;” ptr_var will have the   value as 1002 and not 1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07:28:21Z</dcterms:created>
  <dc:creator>Amit Shindore</dc:creator>
  <dc:description/>
  <dc:language>en-US</dc:language>
  <cp:lastModifiedBy>Windows User</cp:lastModifiedBy>
  <dcterms:modified xsi:type="dcterms:W3CDTF">2016-07-08T10:51:33Z</dcterms:modified>
  <cp:revision>325</cp:revision>
  <dc:subject/>
  <dc:title>PowerPoint Presentation</dc:title>
</cp:coreProperties>
</file>