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2DCEC-BC71-4939-A0EB-924B777A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C45A7-8C99-45E9-8F0E-A18440C9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36F70-74C9-413C-A3D3-7912F5F1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7EEDB-587C-44B4-81DC-45CDC6B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D870A-C31D-4312-B58F-7FB47E77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D4C27-1591-4112-AF68-46F001B3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F6F5C-A821-4EAB-9D6D-79A7EABF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52D2D-DB17-4F52-A25A-88AE670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01AF5-9543-4A6B-BAD5-CE473062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76013-736B-497C-BBF4-70C5030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6995F-2DAB-4AFD-B74D-93250383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73EB-DC4C-44CD-B6A7-B64906D1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4/ </a:t>
            </a:r>
            <a:fld id="{CE8B3ADA-5450-4D65-83C6-A81D3985156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4952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Input and Output in C </a:t>
            </a:r>
            <a:fld id="{20BB6EDA-08E0-47D0-B11C-BE28A2CE32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 / of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put and Output in 'C'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ssion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nput and Output in 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5071-2040-4BE5-BBC4-AE9F12B556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16520" y="1111320"/>
            <a:ext cx="77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String Special Charac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2666880"/>
          <a:ext cx="7391160" cy="2666160"/>
        </p:xfrm>
        <a:graphic>
          <a:graphicData uri="http://schemas.openxmlformats.org/drawingml/2006/table">
            <a:tbl>
              <a:tblPr/>
              <a:tblGrid>
                <a:gridCol w="3695400"/>
                <a:gridCol w="3695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\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 print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\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\ 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 print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 print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  <a:ea typeface="Times New Roman"/>
                        </a:rPr>
                        <a:t> 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43680" y="852480"/>
            <a:ext cx="729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trol strings &amp; format codes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1905120"/>
          <a:ext cx="7696080" cy="4533840"/>
        </p:xfrm>
        <a:graphic>
          <a:graphicData uri="http://schemas.openxmlformats.org/drawingml/2006/table">
            <a:tbl>
              <a:tblPr/>
              <a:tblGrid>
                <a:gridCol w="474480"/>
                <a:gridCol w="1824120"/>
                <a:gridCol w="723960"/>
                <a:gridCol w="1366920"/>
                <a:gridCol w="1042920"/>
                <a:gridCol w="1238040"/>
                <a:gridCol w="102564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Stat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Control St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What the control string cont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Argument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Explanation of the argument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Screen Dis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%d”,300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format command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t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%d”,10+5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format command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+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Good Morning Mr. Lee.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ood Morning Mr. Le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text characters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ood Morning Mr. Le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  count = 10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%d”,count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format command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\nhello”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\nhel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nonprinting character &amp; text charac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llo on a new 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#define str “Good Apple 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…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%s”,str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format command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ymbolic const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ood Ap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……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 count,stud_nu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=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ud_nim=10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ntf(“%d %d\n”,count, stud_num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 %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sists of format command and escape 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unt, stud_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wo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 ,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880" y="928800"/>
            <a:ext cx="61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xample for printf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831760"/>
            <a:ext cx="784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a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b = 24.6789234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ch = ‘A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“Integer data = %d”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Float Data = %f”,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haracter = %c”,c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This prints the string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%s”,”This also prints a string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1600" y="2133720"/>
            <a:ext cx="79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gram to display integer, float , character and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41760" y="990720"/>
            <a:ext cx="61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difiers in printf()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86040" y="2331360"/>
            <a:ext cx="925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‘-‘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tem will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-justifi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in its field, the item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ed beginning from the leftmost position of its fiel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38960" y="4175640"/>
            <a:ext cx="911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Field Wid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with type float, double or char array (string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eld width modifier, which is an integer, defines , de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width for the data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670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" y="2284920"/>
            <a:ext cx="881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Precision Mod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odifier can be used with type float, double or char array (string). If used with data type float or double, the digit string indicates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x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umber of digits to be printed to the right of the deci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760" y="3808800"/>
            <a:ext cx="741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 ‘0’ Mod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fault padding in a field is done with spaces. If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shes to pad a field with zeroes this modifier must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10444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  ‘l’ Mod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odifier can be used to display integers as long int or a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cision argument. The corresponding format code is %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1760" y="990720"/>
            <a:ext cx="61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difiers in printf()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670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421000"/>
            <a:ext cx="7924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6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‘h’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modifier is used to display short integ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rresponding format code is %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052880"/>
            <a:ext cx="7569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7.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‘*’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user does not want to specify the field width in adv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wants the program to specify it, this modifier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41760" y="990720"/>
            <a:ext cx="61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difiers in printf()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65080" y="990720"/>
            <a:ext cx="633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xample for mod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246760"/>
            <a:ext cx="76964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/* This program demonstrate the use of Modifiers in printf()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The number 555 in various forms: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out any modifier: 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 – modifier :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-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 digit string 10 as modifier :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10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 0 as modifier : 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0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 0 and digit string 10 as modifiers :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010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With -, 0 and digit string 10 as modifiers: \n”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“[%-010d]\n”,555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877120" y="928800"/>
            <a:ext cx="22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canf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09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accep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51600" y="31230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eneral format of scanf()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19480" y="3671280"/>
            <a:ext cx="63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scanf(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trol string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”, argument list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7239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rmat used in the printf() statement are used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 same syntax in the scanf() statement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4480" y="53352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erences in argument list of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ntf() and scanf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50400" y="2026800"/>
            <a:ext cx="89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f() uses variable names, constants , symbolic consta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expre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nf() uses pointers to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84240" y="3597480"/>
            <a:ext cx="9324000" cy="2654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When using scanf() follow these rules, for the argument 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wish to read in the value of a variable of basic data 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 the variable name with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reading in the value of a variable of derived data typ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use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the variabl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01600" y="380880"/>
            <a:ext cx="894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ifferences in the format commands  of the printf() and scanf(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000" y="2893320"/>
            <a:ext cx="818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2667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e is no %g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2667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%f and %e format codes are in effect the s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01040" y="928800"/>
            <a:ext cx="33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2860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formatted I/O function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f() and printf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2040" y="3505320"/>
            <a:ext cx="577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se character I/O functions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char() and putchar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33120" y="928800"/>
            <a:ext cx="71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xample for scanf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268360"/>
            <a:ext cx="8234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h, name[4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Please enter the data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“%d %f %c %s”, &amp;a, &amp;d, &amp;ch,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 The values accepted a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, %f, %c, %s”, a, d, ch, 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28080" y="928800"/>
            <a:ext cx="39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uffered I/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9840" y="2132640"/>
            <a:ext cx="60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read and write ASCII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160" y="2894040"/>
            <a:ext cx="86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buff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temporary storage area, either in the memo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on the controller card for th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920" y="4112280"/>
            <a:ext cx="646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ed I/O can be further subdivided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Consol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Buffered Fil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1284120" y="928800"/>
            <a:ext cx="735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onsole I/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19384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ole I/O functions direct their operations to the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8680" y="3444840"/>
            <a:ext cx="854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‘C’ the simplest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console I/O fun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getchar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which reads one (and only one) charac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putchar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which outputs a single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the 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44000" y="928800"/>
            <a:ext cx="296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getchar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422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read input data, a character at a ti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from the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4120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characters until the user types a carri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retu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9720" y="4858920"/>
            <a:ext cx="899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char() function has no argument, but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parentheses - must still be pres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55840" y="928800"/>
            <a:ext cx="67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for getchar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724120"/>
            <a:ext cx="883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rogram to demonstrate the use of getchar(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“\nPlease enter any character : “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tter = getch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\nThe character entered by you is %c“, lett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96840" y="928800"/>
            <a:ext cx="44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utchar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06668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86120" y="187956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 output function in ‘C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an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5560" y="337644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Argument of a putchar() function can b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43080" y="4037040"/>
            <a:ext cx="496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scape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haracter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94520" y="8524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putchar() options &amp; eff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2362320"/>
          <a:ext cx="8458200" cy="38862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Tahoma"/>
                          <a:ea typeface="바탕"/>
                        </a:rPr>
                        <a:t>Arg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Tahoma"/>
                          <a:ea typeface="바탕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Tahoma"/>
                          <a:ea typeface="바탕"/>
                        </a:rPr>
                        <a:t>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character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putchar(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Displays the contents of character variab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character cons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putchar(‘A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Displays the lette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numeric cons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putchar(‘5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Displays the digit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escape 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putchar(‘\t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Inserts a tab space character at the cursor 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escape sequ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putchar(‘\n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Inserts a carriage return at the cursor 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06668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85400" y="9288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utchar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977840"/>
            <a:ext cx="8610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his program demonstrates the use of constants and escape sequences in putchar(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H’); putchar(‘\n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\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E’); putchar(‘\n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\t’); putchar(‘\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L’); putchar(‘\n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\t’); putchar(‘\t’); putchar(‘\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L’); putchar(‘\n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\t’); putchar(‘\t’); putchar(‘\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\t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char(‘O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15000" y="289548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67920" y="928800"/>
            <a:ext cx="72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tandard Input/Out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905120"/>
            <a:ext cx="8381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In C, the standard library provides routines for input and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The standard library has functions for I/O that handle inpu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  output, and character and string manip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Standard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input is usually the keyboar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Standard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output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is usually the monitor (also called the conso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Input and Output can be rerouted from or to files instead of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Gulim"/>
              </a:rPr>
              <a:t>  standard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8440" y="928800"/>
            <a:ext cx="784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Header File &lt;stdio.h&g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240" y="2225520"/>
            <a:ext cx="30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" y="2742120"/>
            <a:ext cx="55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 preprocessor comm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62640" y="330552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stdio.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le and is called the head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4680" y="3884760"/>
            <a:ext cx="90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s the macros for many of the input/output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in ‘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260280" y="4951440"/>
            <a:ext cx="980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printf(), scanf(), putchar(), getchar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s are  desig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that, they require the macros in stdio.h for proper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8480" y="928800"/>
            <a:ext cx="771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ormatted Input/Out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440" y="2207880"/>
            <a:ext cx="551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printf(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for formatt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scanf(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for formatted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120" y="4068720"/>
            <a:ext cx="87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Format specifiers</a:t>
            </a:r>
            <a:r>
              <a:rPr b="1" i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y the format in whic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s of the variables are to be input and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69120" y="928800"/>
            <a:ext cx="30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rintf ()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200" y="2208600"/>
            <a:ext cx="68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d to display data on the standard output – cons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742120"/>
            <a:ext cx="75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printf ( “control string”, argument l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200" y="3305520"/>
            <a:ext cx="7894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rgument list consists of constants, variables, expre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functions separated by com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560" y="4067640"/>
            <a:ext cx="7641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must be one format command in the control strin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argument in the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120" y="4829400"/>
            <a:ext cx="7024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rmat commands must match the argument lis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, type and 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517000"/>
            <a:ext cx="8686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ntrol string must always be enclosed with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quotes, which are its delimi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1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control string consists of one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 three types of item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800" y="2986200"/>
            <a:ext cx="62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printable charac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360" y="3916080"/>
            <a:ext cx="949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Format Commands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s with a % sign and is followed by a format cod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ropriate for the data i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440" y="5272200"/>
            <a:ext cx="67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Nonprinting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tabs, blanks and new li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69120" y="928800"/>
            <a:ext cx="305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rintf ()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94560" y="928800"/>
            <a:ext cx="484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ormat code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2006640"/>
          <a:ext cx="6781680" cy="3784320"/>
        </p:xfrm>
        <a:graphic>
          <a:graphicData uri="http://schemas.openxmlformats.org/drawingml/2006/table">
            <a:tbl>
              <a:tblPr/>
              <a:tblGrid>
                <a:gridCol w="3943080"/>
                <a:gridCol w="1446480"/>
                <a:gridCol w="1392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print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scanf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ngle Charac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gned decimal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oating point (decimal not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f or %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oating point (decimal not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oating point (exponential not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f or %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loating point ( %f  or %e , whichever is shor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signed decimal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signed hexadecimal integer (uses “ABCDEF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signed octal 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04920" y="603396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he above table c, d, f, lf, e, g, u, s, o and x are the type spec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143000" y="2362320"/>
          <a:ext cx="6705360" cy="3733560"/>
        </p:xfrm>
        <a:graphic>
          <a:graphicData uri="http://schemas.openxmlformats.org/drawingml/2006/table">
            <a:tbl>
              <a:tblPr/>
              <a:tblGrid>
                <a:gridCol w="1444680"/>
                <a:gridCol w="526068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Format 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Tahoma"/>
                          <a:ea typeface="Times New Roman"/>
                        </a:rPr>
                        <a:t>Printing Con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number of digits in the inte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integer part of the number will be printed as such. The decimal part will consist of 6 digits. If the decimal part of the number is smaller than 6, it will be padded with trailing zeroes at the right, else it will be rounded at the righ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e digit to the left of the decimal point and 6 places to the right , as in %f abo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194560" y="928800"/>
            <a:ext cx="484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Format code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put and Output in 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4:09:45Z</dcterms:created>
  <dc:creator>Amit Shindore</dc:creator>
  <dc:description/>
  <dc:language>en-US</dc:language>
  <cp:lastModifiedBy>Blake</cp:lastModifiedBy>
  <dcterms:modified xsi:type="dcterms:W3CDTF">2004-09-29T08:28:17Z</dcterms:modified>
  <cp:revision>430</cp:revision>
  <dc:subject/>
  <dc:title>PowerPoint Presentation</dc:title>
</cp:coreProperties>
</file>