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4172-3254-4703-B044-F5D527CD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17EF-BC82-48C6-86B9-4EBDAAB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5FF1C-C352-4FDF-A837-26BAD6E3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A2B0-D72D-42DA-80FD-E911768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ACF0-E09D-40CC-9C6D-8ABBA29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8F43-4527-48AC-B639-768E9B3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F1DE3-6DC5-49BC-AD4C-074D0B0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07184-3A75-49BF-956D-8B32A2F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71F62-1F36-4F0F-A03A-96F4595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EF13-3803-402D-A41B-6B8200BC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5BE38-E037-40BD-893F-E1286258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C88F6-4AF2-47BC-A9F7-DF7F6AED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5/ </a:t>
            </a:r>
            <a:fld id="{1638F385-E36E-47EE-BC17-2CD6584AE67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1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A4EF-8030-41FD-9920-0136ABE5C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ssion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33880" y="91440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if–else–if statement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120" y="1779480"/>
            <a:ext cx="16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43200" y="2523960"/>
          <a:ext cx="3657600" cy="32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23960"/>
                    <a:ext cx="365760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2482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 – else – if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is also known as the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if-else-if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dder or 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-else-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stair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733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onditions are evaluated from the top down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33880" y="91440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if–else–if statement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2446920"/>
            <a:ext cx="7772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rscr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nter Choice (1 - 3) : 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&amp;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x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 (“\nChoice is 1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 x =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 (“\nChoice is 2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if ( x ==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 (“\nChoice is 3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 (“\nInvalid Choice 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62320" y="199548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gram to display a message based on a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33880" y="91440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if–else–if statement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78080" y="28954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37280" y="928800"/>
            <a:ext cx="36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ested if-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209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nested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 an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, which is plac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within another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920" y="3657600"/>
            <a:ext cx="820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C, an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l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always refers to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nearest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that is within the sam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block as the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lse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and is not already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associated with an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447920" y="2514600"/>
          <a:ext cx="6248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514600"/>
                    <a:ext cx="6248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76320" y="4586400"/>
            <a:ext cx="86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ote that the inner else is associated with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if(exp3)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5348160"/>
            <a:ext cx="91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cording to ANSI standards, a compiler shoul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support at least 15 levels of n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9760" y="190512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10200" y="1004760"/>
            <a:ext cx="36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ested if-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52400" y="928800"/>
            <a:ext cx="347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Nested if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0320" y="2129040"/>
            <a:ext cx="838368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 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 = y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rscr 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“Enter Choice (1 - 3) : “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anf (“%d”, &amp;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x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Enter value for y (1 - 5) : “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scanf (“%d”, &amp;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if (y &lt;=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P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The value for y is : %d”, y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The value of y exceeds 5 “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“\nChoice entered was not 1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78080" y="28954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62960" y="914400"/>
            <a:ext cx="73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witch statement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209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switc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statement is a multi-way decision   maker that tests the value of an expression against a list of integers or character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5960" y="3911760"/>
            <a:ext cx="88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en a match is found, the statements assoc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ith that constant are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62960" y="928800"/>
            <a:ext cx="73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witch statement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2689200"/>
          <a:ext cx="4572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89200"/>
                    <a:ext cx="4572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964800" y="207180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34360" y="928800"/>
            <a:ext cx="73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witch statement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968200"/>
            <a:ext cx="8258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rscr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 (“\nEnter a lower cased alphabet (a - z) : 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“%c”, &amp;c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d…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8040" y="2101680"/>
            <a:ext cx="79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gram to check whether the entered lowercase character is vow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r ‘z’ or a conso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78080" y="33670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2206800"/>
            <a:ext cx="8763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ch &lt; ‘a’ || ch &gt; ‘z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Character not a lower cased alphabet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 (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a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e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i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o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u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Character is a vowel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‘z’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“\nLast Alphabet (z) was entered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aul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\nCharacter is a consonant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3440" y="228600"/>
            <a:ext cx="796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witch statement-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75240" y="31384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24560" y="928800"/>
            <a:ext cx="33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360" y="2387520"/>
            <a:ext cx="5601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Selection Constru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 – e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Multi 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Nested i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14360" y="928800"/>
            <a:ext cx="7067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al Stat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2096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ditional statements enable us to change the flow 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A conditional statement evaluates to either a  true or a fals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560" y="3613320"/>
            <a:ext cx="656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817800"/>
            <a:ext cx="8839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ampl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find whether a number is even or odd we proceed as follow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cept a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nd the remainder by dividing the number b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the remainder is zero, the number is “EV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 if the remainder is not zero the number is “OD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26120" y="928800"/>
            <a:ext cx="641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lection Constru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1760" y="2209680"/>
            <a:ext cx="76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supports two types of selectio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124080"/>
            <a:ext cx="6629400" cy="1219320"/>
          </a:xfrm>
          <a:custGeom>
            <a:avLst/>
            <a:gdLst>
              <a:gd name="textAreaLeft" fmla="*/ 0 w 6629400"/>
              <a:gd name="textAreaRight" fmla="*/ 6629760 w 66294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stat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419720"/>
            <a:ext cx="6629400" cy="1218960"/>
          </a:xfrm>
          <a:custGeom>
            <a:avLst/>
            <a:gdLst>
              <a:gd name="textAreaLeft" fmla="*/ 0 w 6629400"/>
              <a:gd name="textAreaRight" fmla="*/ 6629760 w 6629400"/>
              <a:gd name="textAreaTop" fmla="*/ 158040 h 1218960"/>
              <a:gd name="textAreaBottom" fmla="*/ 10609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828800" y="2819520"/>
            <a:ext cx="4800600" cy="3124080"/>
            <a:chOff x="1828800" y="2819520"/>
            <a:chExt cx="4800600" cy="3124080"/>
          </a:xfrm>
        </p:grpSpPr>
        <p:graphicFrame>
          <p:nvGraphicFramePr>
            <p:cNvPr id="110" name=""/>
            <p:cNvGraphicFramePr/>
            <p:nvPr/>
          </p:nvGraphicFramePr>
          <p:xfrm>
            <a:off x="1828800" y="2819520"/>
            <a:ext cx="4800600" cy="31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2819520"/>
                      <a:ext cx="4800600" cy="31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2133720" y="4448520"/>
              <a:ext cx="4343400" cy="122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494360" y="914400"/>
            <a:ext cx="57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if statement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360" y="213372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6720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f 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expression evaluates to true, the block following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or statements are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4840" y="990720"/>
            <a:ext cx="60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if statement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9520" y="2144880"/>
            <a:ext cx="79153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a = ‘y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y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 == ‘y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+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The numbers are %d and \t%d”, 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82280" y="2224080"/>
            <a:ext cx="60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gram to display the values based on a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78080" y="33670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784548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f – else statement-1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2819520"/>
          <a:ext cx="60195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6019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114200" y="231624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84548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f – else statement-2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4131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28116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f 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expression does not evaluate to true then the statements following 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else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expression take over 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98168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is optional. It is used only if a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statement or a sequence of statements are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ecuted in case the if expression evaluates to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10168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f the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expression evaluates to true, the block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following 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tement or statements ar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execu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28800"/>
            <a:ext cx="802476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f – else statement -3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3280"/>
            <a:ext cx="685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 , re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Enter a number :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“%d”,&amp;n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 = num %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res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Then number is Eve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The number is Od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81680" y="199548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ogram to display whether a number is Even or O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75240" y="336708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03:13:45Z</dcterms:created>
  <dc:creator>Amit Shindore</dc:creator>
  <dc:description/>
  <dc:language>en-US</dc:language>
  <cp:lastModifiedBy>Blake</cp:lastModifiedBy>
  <dcterms:modified xsi:type="dcterms:W3CDTF">2004-09-29T08:29:04Z</dcterms:modified>
  <cp:revision>268</cp:revision>
  <dc:subject/>
  <dc:title>PowerPoint Presentation</dc:title>
</cp:coreProperties>
</file>