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E7380-3835-41E7-A606-1578D81F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5C614-D4A2-464E-92AE-88B7FF81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3501A-61AE-49BE-9563-71962D99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B794F-1154-468B-B40B-B53CCE85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84400-D7B0-45F8-A419-7C841FC4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D2AB2-4F37-412F-B50E-CB4EDEDD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60CA9-6DE1-40A8-992E-90ED6AC4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3BFA9-4714-4205-8742-1EDB924E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5CED0-613E-47A5-B804-09A6C003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1E67C-5FE0-430F-B688-1DC3B21D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408BC-B6DB-4361-8273-61A54B47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FACA0-5BB8-413E-A434-B851F80B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6/ </a:t>
            </a:r>
            <a:fld id="{C1443541-3759-4EC9-ADA1-6A0BC47BA1F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B6AC-E3CC-41DC-AA9A-B24F89ECD3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ahoma"/>
              </a:rPr>
              <a:t>Loop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ssion 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1963440"/>
            <a:ext cx="8153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, j, 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Enter no. of rows :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("%d", &amp;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j = 0; j &lt; i 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k = 0; k &lt;= j; k++) /*inner for loop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*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38440" y="928800"/>
            <a:ext cx="589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1" lang="en-US" sz="4800" spc="-1" strike="noStrike">
                <a:solidFill>
                  <a:srgbClr val="3333ff"/>
                </a:solidFill>
                <a:latin typeface="Tahoma"/>
              </a:rPr>
              <a:t>for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Loops-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2362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2771640"/>
            <a:ext cx="64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while (condition is tru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statement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702680"/>
            <a:ext cx="74674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while loop repeats statements while a certa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ecified condition i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49680" y="928800"/>
            <a:ext cx="545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4800" spc="-1" strike="noStrike">
                <a:solidFill>
                  <a:srgbClr val="3333ff"/>
                </a:solidFill>
                <a:latin typeface="Tahoma"/>
              </a:rPr>
              <a:t>while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Loop-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21337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2116080"/>
            <a:ext cx="8410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A simple program using the while loop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 count &lt;=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“\n This is iteration %d\n”,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“\n The loop is completed. 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49680" y="928800"/>
            <a:ext cx="545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4800" spc="-1" strike="noStrike">
                <a:solidFill>
                  <a:srgbClr val="3333ff"/>
                </a:solidFill>
                <a:latin typeface="Tahoma"/>
              </a:rPr>
              <a:t>while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Loop-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2895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3880" y="9288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ahoma"/>
              </a:rPr>
              <a:t>do…while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Loop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80988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 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 the body of the code is execute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before the test is per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condition becomes False in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o 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be terminated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control goes to the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appears immediately after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981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61400" y="2741760"/>
            <a:ext cx="261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do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state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} while (condi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1946520"/>
            <a:ext cx="895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1, num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2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 "\nEnter a number 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f(“%d”,&amp;num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 " No. is %d",num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2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 (num1 !=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 ("\nThe total numbers entered were %d",--num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/*num2 is decremented before printing because count for last integer (0) is not to be considere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9288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ahoma"/>
              </a:rPr>
              <a:t>do…while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Loop-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2895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65880" y="928800"/>
            <a:ext cx="615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Jump Statements-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362320" y="2247840"/>
            <a:ext cx="174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tur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345200" y="2224080"/>
            <a:ext cx="330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560" y="3352680"/>
            <a:ext cx="82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return statement is used to return from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720" y="4054320"/>
            <a:ext cx="80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t causes execution to return to the point at which the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call to the function wa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4760" y="5121360"/>
            <a:ext cx="82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return statement can have a value with it, which it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returns to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590920" y="2171880"/>
            <a:ext cx="174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oto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4554000" y="2057400"/>
            <a:ext cx="14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b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99520" y="3429000"/>
            <a:ext cx="7858440" cy="2898000"/>
            <a:chOff x="299520" y="3429000"/>
            <a:chExt cx="7858440" cy="2898000"/>
          </a:xfrm>
        </p:grpSpPr>
        <p:sp>
          <p:nvSpPr>
            <p:cNvPr id="158" name=""/>
            <p:cNvSpPr/>
            <p:nvPr/>
          </p:nvSpPr>
          <p:spPr>
            <a:xfrm>
              <a:off x="340560" y="3429000"/>
              <a:ext cx="781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The goto statement transfers control to any other </a:t>
              </a:r>
              <a:br>
                <a:rPr sz="2400"/>
              </a:b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    statement within the same function in a C pr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99520" y="4464000"/>
              <a:ext cx="7826040" cy="1863000"/>
              <a:chOff x="299520" y="4464000"/>
              <a:chExt cx="7826040" cy="1863000"/>
            </a:xfrm>
          </p:grpSpPr>
          <p:sp>
            <p:nvSpPr>
              <p:cNvPr id="160" name=""/>
              <p:cNvSpPr/>
              <p:nvPr/>
            </p:nvSpPr>
            <p:spPr>
              <a:xfrm>
                <a:off x="356400" y="4464000"/>
                <a:ext cx="7544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It actually violates the rules of a strictly structured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  programming 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9520" y="5501520"/>
                <a:ext cx="7826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They reduce program reliability and make program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  difficult to mainta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1865880" y="928800"/>
            <a:ext cx="615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Jump Statements-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14600" y="2095560"/>
            <a:ext cx="174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re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4375800" y="2057400"/>
            <a:ext cx="286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15360" y="3216240"/>
            <a:ext cx="8393040" cy="3035880"/>
            <a:chOff x="315360" y="3216240"/>
            <a:chExt cx="8393040" cy="3035880"/>
          </a:xfrm>
        </p:grpSpPr>
        <p:sp>
          <p:nvSpPr>
            <p:cNvPr id="166" name=""/>
            <p:cNvSpPr/>
            <p:nvPr/>
          </p:nvSpPr>
          <p:spPr>
            <a:xfrm>
              <a:off x="376200" y="3216240"/>
              <a:ext cx="803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The break statement is used to terminate a case in a  </a:t>
              </a:r>
              <a:br>
                <a:rPr sz="2400"/>
              </a:b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    switch stat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520" y="4222800"/>
              <a:ext cx="772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It can also be used for abrupt termination of a lo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5360" y="5060880"/>
              <a:ext cx="8393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hen the break statement is encountered in a loop, the</a:t>
              </a:r>
              <a:br>
                <a:rPr sz="2400"/>
              </a:b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    loop is terminated immediately and control is passed </a:t>
              </a:r>
              <a:br>
                <a:rPr sz="2400"/>
              </a:b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    to the statement following the lo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865880" y="928800"/>
            <a:ext cx="615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Jump Statements-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946880" y="928800"/>
            <a:ext cx="529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break state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264960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1, count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count1 = 1, count2 = 0;count1 &lt;=100; count1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printf("Enter %d count2 : ",count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("%d", &amp;count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(j==100)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15000" y="2209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323280" y="2197080"/>
            <a:ext cx="8465400" cy="3445200"/>
            <a:chOff x="323280" y="2197080"/>
            <a:chExt cx="8465400" cy="3445200"/>
          </a:xfrm>
        </p:grpSpPr>
        <p:sp>
          <p:nvSpPr>
            <p:cNvPr id="174" name=""/>
            <p:cNvSpPr txBox="1"/>
            <p:nvPr/>
          </p:nvSpPr>
          <p:spPr>
            <a:xfrm>
              <a:off x="2514600" y="2197080"/>
              <a:ext cx="1981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noFill/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continue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44280" y="2219040"/>
              <a:ext cx="286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statemen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3280" y="3444480"/>
              <a:ext cx="842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The continue statement causes the next iteration of the </a:t>
              </a:r>
              <a:br>
                <a:rPr sz="2400"/>
              </a:b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    enclosing loop to beg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7760" y="4451040"/>
              <a:ext cx="844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When this statement is encountered, the remaining </a:t>
              </a:r>
              <a:br>
                <a:rPr sz="2400"/>
              </a:b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    statements in the body of the loop are skipped and the </a:t>
              </a:r>
              <a:br>
                <a:rPr sz="2400"/>
              </a:b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    control is passed on to the re-initialization st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177640" y="928800"/>
            <a:ext cx="59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Jump Statements-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520" y="22860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‘for’ loop in ‘C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with comma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nest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 ‘while’ loop and the ‘do-while’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with break and continue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 exit()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92880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87520" y="928800"/>
            <a:ext cx="623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ontinue state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68720" y="2205360"/>
            <a:ext cx="6352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num = 1; num &lt;=100; num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(num % 9 == 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\t",nu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2452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514600" y="2400480"/>
            <a:ext cx="198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it()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551840" y="2286000"/>
            <a:ext cx="236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7880" y="3368520"/>
            <a:ext cx="69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exit() is used to break out of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2040" y="4375080"/>
            <a:ext cx="82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use of this function causes immediate termination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of the program and control rests in the hands of the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50880" y="928800"/>
            <a:ext cx="599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Jump Statements-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901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a Loop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1240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Section of code in a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which is executed repeatedl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until a specific condition is satis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58640" y="944640"/>
            <a:ext cx="756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3 types of Loop Structure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2286000"/>
            <a:ext cx="7010280" cy="3809520"/>
            <a:chOff x="990720" y="2286000"/>
            <a:chExt cx="7010280" cy="3809520"/>
          </a:xfrm>
        </p:grpSpPr>
        <p:sp>
          <p:nvSpPr>
            <p:cNvPr id="105" name=""/>
            <p:cNvSpPr/>
            <p:nvPr/>
          </p:nvSpPr>
          <p:spPr>
            <a:xfrm>
              <a:off x="990720" y="2286000"/>
              <a:ext cx="7010280" cy="1218960"/>
            </a:xfrm>
            <a:custGeom>
              <a:avLst/>
              <a:gdLst>
                <a:gd name="textAreaLeft" fmla="*/ 0 w 7010280"/>
                <a:gd name="textAreaRight" fmla="*/ 7010640 w 7010280"/>
                <a:gd name="textAreaTop" fmla="*/ 158040 h 1218960"/>
                <a:gd name="textAreaBottom" fmla="*/ 10609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Tahoma"/>
                </a:rPr>
                <a:t>The</a:t>
              </a:r>
              <a:r>
                <a:rPr b="0" lang="en-US" sz="4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4800" spc="-1" strike="noStrike">
                  <a:solidFill>
                    <a:srgbClr val="1c1c1c"/>
                  </a:solidFill>
                  <a:latin typeface="Tahoma"/>
                </a:rPr>
                <a:t>for</a:t>
              </a:r>
              <a:r>
                <a:rPr b="0" lang="en-US" sz="4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4800" spc="-1" strike="noStrike">
                  <a:solidFill>
                    <a:srgbClr val="3333cc"/>
                  </a:solidFill>
                  <a:latin typeface="Tahoma"/>
                </a:rPr>
                <a:t>loo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3581280"/>
              <a:ext cx="6933960" cy="1218600"/>
            </a:xfrm>
            <a:custGeom>
              <a:avLst/>
              <a:gdLst>
                <a:gd name="textAreaLeft" fmla="*/ 0 w 6933960"/>
                <a:gd name="textAreaRight" fmla="*/ 6934320 w 6933960"/>
                <a:gd name="textAreaTop" fmla="*/ 157680 h 1218600"/>
                <a:gd name="textAreaBottom" fmla="*/ 1060920 h 12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ahoma"/>
                </a:rPr>
                <a:t>The</a:t>
              </a: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4400" spc="-1" strike="noStrike">
                  <a:solidFill>
                    <a:srgbClr val="1c1c1c"/>
                  </a:solidFill>
                  <a:latin typeface="Tahoma"/>
                </a:rPr>
                <a:t>while</a:t>
              </a: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4400" spc="-1" strike="noStrike">
                  <a:solidFill>
                    <a:srgbClr val="3333cc"/>
                  </a:solidFill>
                  <a:latin typeface="Tahoma"/>
                </a:rPr>
                <a:t>loop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90720" y="4876560"/>
              <a:ext cx="6933960" cy="1218960"/>
            </a:xfrm>
            <a:custGeom>
              <a:avLst/>
              <a:gdLst>
                <a:gd name="textAreaLeft" fmla="*/ 0 w 6933960"/>
                <a:gd name="textAreaRight" fmla="*/ 6934320 w 6933960"/>
                <a:gd name="textAreaTop" fmla="*/ 158040 h 1218960"/>
                <a:gd name="textAreaBottom" fmla="*/ 10609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ahoma"/>
                  <a:ea typeface="Times New Roman"/>
                </a:rPr>
                <a:t>The</a:t>
              </a:r>
              <a:r>
                <a:rPr b="0" lang="en-US" sz="4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4400" spc="-1" strike="noStrike">
                  <a:solidFill>
                    <a:srgbClr val="1c1c1c"/>
                  </a:solidFill>
                  <a:latin typeface="Tahoma"/>
                  <a:ea typeface="Times New Roman"/>
                </a:rPr>
                <a:t>do….while</a:t>
              </a:r>
              <a:r>
                <a:rPr b="0" lang="en-US" sz="4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4400" spc="-1" strike="noStrike">
                  <a:solidFill>
                    <a:srgbClr val="3333cc"/>
                  </a:solidFill>
                  <a:latin typeface="Tahoma"/>
                  <a:ea typeface="Times New Roman"/>
                </a:rPr>
                <a:t>loop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2392200"/>
            <a:ext cx="6858000" cy="1265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660760" y="852480"/>
            <a:ext cx="43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4800" spc="-1" strike="noStrike">
                <a:solidFill>
                  <a:srgbClr val="3333ff"/>
                </a:solidFill>
                <a:latin typeface="Tahoma"/>
              </a:rPr>
              <a:t>for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loop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66160" y="18954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0000" y="2133720"/>
            <a:ext cx="7372080" cy="2227680"/>
            <a:chOff x="270000" y="2133720"/>
            <a:chExt cx="7372080" cy="2227680"/>
          </a:xfrm>
        </p:grpSpPr>
        <p:sp>
          <p:nvSpPr>
            <p:cNvPr id="112" name=""/>
            <p:cNvSpPr/>
            <p:nvPr/>
          </p:nvSpPr>
          <p:spPr>
            <a:xfrm>
              <a:off x="270000" y="3657600"/>
              <a:ext cx="737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333399"/>
                  </a:solidFill>
                  <a:latin typeface="Tahoma"/>
                </a:rPr>
                <a:t>The initialize counter is an assignment statement that sets</a:t>
              </a:r>
              <a:br>
                <a:rPr sz="2000"/>
              </a:br>
              <a:r>
                <a:rPr b="0" lang="en-US" sz="2000" spc="-1" strike="noStrike">
                  <a:solidFill>
                    <a:srgbClr val="333399"/>
                  </a:solidFill>
                  <a:latin typeface="Tahoma"/>
                </a:rPr>
                <a:t>    the loop control variable, before entering the lo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280" y="2133720"/>
              <a:ext cx="2133720" cy="533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70360" y="5394240"/>
            <a:ext cx="70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he evaluation parameter defines how the loop control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 variable changes, each time the loop is executed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98440" y="1996920"/>
            <a:ext cx="6712200" cy="3263040"/>
            <a:chOff x="298440" y="1996920"/>
            <a:chExt cx="6712200" cy="3263040"/>
          </a:xfrm>
        </p:grpSpPr>
        <p:sp>
          <p:nvSpPr>
            <p:cNvPr id="116" name=""/>
            <p:cNvSpPr/>
            <p:nvPr/>
          </p:nvSpPr>
          <p:spPr>
            <a:xfrm>
              <a:off x="298440" y="4556160"/>
              <a:ext cx="6712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333399"/>
                  </a:solidFill>
                  <a:latin typeface="Tahoma"/>
                </a:rPr>
                <a:t>The conditional test is a relational expression, which </a:t>
              </a:r>
              <a:br>
                <a:rPr sz="2000"/>
              </a:br>
              <a:r>
                <a:rPr b="0" lang="en-US" sz="2000" spc="-1" strike="noStrike">
                  <a:solidFill>
                    <a:srgbClr val="333399"/>
                  </a:solidFill>
                  <a:latin typeface="Tahoma"/>
                </a:rPr>
                <a:t>    determines, when the loop will ex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29000" y="1996920"/>
              <a:ext cx="1905120" cy="533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76840" y="2301840"/>
            <a:ext cx="87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three sections of th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oop must be separated by a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semicolon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;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560" y="3444840"/>
            <a:ext cx="83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statement, which forms the body of the loop, can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either be a single statement or a compound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54356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loop continues to execute as long as the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conditional test evaluates to true. When the condition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becomes false, the program resumes on the statement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following th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0760" y="852480"/>
            <a:ext cx="43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4800" spc="-1" strike="noStrike">
                <a:solidFill>
                  <a:srgbClr val="3333ff"/>
                </a:solidFill>
                <a:latin typeface="Tahoma"/>
              </a:rPr>
              <a:t>for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loop-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256120"/>
            <a:ext cx="891540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This program demonstrates the for loop in a C program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“\tThis is a 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count = 1; count &lt;=6 ; count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“\n\t\t nic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“\n\t\t world.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0760" y="852480"/>
            <a:ext cx="43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4800" spc="-1" strike="noStrike">
                <a:solidFill>
                  <a:srgbClr val="3333ff"/>
                </a:solidFill>
                <a:latin typeface="Tahoma"/>
              </a:rPr>
              <a:t>for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loop-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0481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89400" y="928800"/>
            <a:ext cx="674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Comma Opera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1880" y="2116800"/>
            <a:ext cx="875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cope of th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oop can be extended by including more th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initializations or increment expressions in the for loop spec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The format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1" lang="en-US" sz="2000" spc="-1" strike="noStrike">
                <a:solidFill>
                  <a:srgbClr val="0099ff"/>
                </a:solidFill>
                <a:latin typeface="Tahoma"/>
              </a:rPr>
              <a:t>exprn1 , exprn2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683080"/>
            <a:ext cx="8524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, j , ma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Please enter the maximum value \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for which a table can be printed: “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f(“%d”, &amp;ma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1800" spc="-1" strike="noStrike">
                <a:solidFill>
                  <a:srgbClr val="000000"/>
                </a:solidFill>
                <a:latin typeface="Courier New"/>
              </a:rPr>
              <a:t>for(i = 0 , j = max ; i &lt;=max ; i++, j-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1800" spc="-1" strike="noStrike">
                <a:solidFill>
                  <a:srgbClr val="000000"/>
                </a:solidFill>
                <a:latin typeface="Courier New"/>
              </a:rPr>
              <a:t>printf(”\n%d  +  %d  =  %d”,i, j, i + j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38862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38440" y="928800"/>
            <a:ext cx="589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1" lang="en-US" sz="4800" spc="-1" strike="noStrike">
                <a:solidFill>
                  <a:srgbClr val="3333ff"/>
                </a:solidFill>
                <a:latin typeface="Tahoma"/>
              </a:rPr>
              <a:t>for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Loops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1337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 algn="ctr"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loop will be termed as a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ested 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loop when it is written as fol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29400" y="3195720"/>
            <a:ext cx="4668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(i = 1; i&lt;max1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(j = 0; j &lt; = max2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03:13:45Z</dcterms:created>
  <dc:creator>Amit Shindore</dc:creator>
  <dc:description/>
  <dc:language>en-US</dc:language>
  <cp:lastModifiedBy>Debjani Deb</cp:lastModifiedBy>
  <dcterms:modified xsi:type="dcterms:W3CDTF">2009-07-27T04:53:18Z</dcterms:modified>
  <cp:revision>236</cp:revision>
  <dc:subject/>
  <dc:title>PowerPoint Presentation</dc:title>
</cp:coreProperties>
</file>