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F79C0-5F52-41BB-A5FD-FD91A2B5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1471C-5564-4150-89D6-716D099B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25081-B84B-4C58-8B89-2554342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26067-3A6C-4984-AD7F-4A8A8029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E0148-C630-4766-9431-09D25B06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4B234-3C29-4D69-BB11-CBCB71B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6DB70-AF39-47E4-86E7-A93CA56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0D2D9-051F-4114-9253-82CD3E2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56E0E-4E1B-4B58-B506-1CB83BB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1ABFA-1366-4D32-AA11-8BFF28BF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32DD3-33A2-411C-9DF9-6246C4A7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50A2F-1121-42DA-9A51-D379A160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4800600" y="63244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11/ </a:t>
            </a:r>
            <a:fld id="{6DD21E44-3D30-42DE-83C6-256A9EB8989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E040-E454-4186-996A-81CCE0F90C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dvanced Data types and Sorting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ession 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92240" y="441360"/>
            <a:ext cx="779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ssignment Statements U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ith Structure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440" y="2057400"/>
            <a:ext cx="8253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ases where direct assignment is not possible, the in-built functi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mcpy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Courier New"/>
              </a:rPr>
              <a:t>memcpy (char * destn, char &amp;source, int nbyt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Courier New"/>
              </a:rPr>
              <a:t>memcpy (&amp;books2, &amp;books1, sizeof(struct ca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90320" y="1050840"/>
            <a:ext cx="740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ructures within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989000"/>
            <a:ext cx="8534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possible to have one structure within another structure.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structure cannot be nested within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4238640"/>
            <a:ext cx="82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access the elements of the structure the format will be similar to the one used with normal structu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543040"/>
            <a:ext cx="55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har borrower [2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har dt_of_issue[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cat book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iss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0320" y="4876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6858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ssl.borr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3440" y="5257800"/>
            <a:ext cx="82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access elements of the structure cat, which is a part of another structure issue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8520" y="59428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issl.books.auth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9880" y="320760"/>
            <a:ext cx="629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ssing Structures 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gu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133720"/>
            <a:ext cx="8253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ructure variable can be passed as an argument to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facility is used to pass groups of logically related data items together instead of passing them one by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ype of the argument should match the type of the parame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80640" y="76320"/>
            <a:ext cx="6319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Array of Structures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8440" y="2057400"/>
            <a:ext cx="825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use of structures is in arrays of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ructure is first defined, and then an array variable of that type is decla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truct cat books[5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access the variable author of the fourth element of the arra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o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Courier New"/>
              </a:rPr>
              <a:t>books[4].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00600" y="330120"/>
            <a:ext cx="675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nitialization of Structu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rrays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981080"/>
            <a:ext cx="82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arrays are initialized by enclosing the list of values of its elements within a pair of br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017880"/>
            <a:ext cx="72388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truct un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t i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truct unit series [3]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{‘a’, 10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{‘b’, 200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{‘c’, 300}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94360" y="928800"/>
            <a:ext cx="736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Pointers to Structures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8440" y="2057400"/>
            <a:ext cx="8253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pointers are declared by placing an asterisk(*) in front of the structure variable’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is used to access the elements of a structure using a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truct cat *ptr_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tr_bk = &amp;book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printf(“%s”, ptr_bk-&gt;autho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pointers passed as arguments to functions enable the function to modify the structure elements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90120" y="928800"/>
            <a:ext cx="72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typedef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keyword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057400"/>
            <a:ext cx="8253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data type name can be defined by using the keyword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ype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reate a new data type, but defines a new name for an existing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def type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def float dec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def cannot be used with storage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143080" y="928800"/>
            <a:ext cx="45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orting Arr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8440" y="1905120"/>
            <a:ext cx="825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ing involves arranging the array data in a specified order such as ascending or desc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an array is easier to search when the array is s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two methods to sort arrays – Selection Sort and Bubble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selection sort method, the value present in each element is compared with the subsequent elements in the array to obtain the least/greates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ubble sort method, the comparisons begin from the bottom-most element and the smaller element bubbles up to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15680" y="928800"/>
            <a:ext cx="426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Bubble Sort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9568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95680" y="31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1828800"/>
          <a:ext cx="4572000" cy="50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457200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134440" y="928800"/>
            <a:ext cx="426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Bubble Sort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9568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8440" y="2057400"/>
            <a:ext cx="825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nt i, j, temp, arr_num[5] = { 23, 90, 9, 25, 16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clrsc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or(i=3;i&gt;=0;i--) /* Tracks every pas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for(j=4;j&gt;=4-i;j--) /* Compares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f(arr_num[j]&lt;arr_num[j-1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temp=arr_num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rr_num[j]=arr_num[j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rr_num[j-1]=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Contd….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2133720"/>
            <a:ext cx="2209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32240" y="928800"/>
            <a:ext cx="42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Objectives -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98108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structures and thei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e structur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how structure elements are ac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how structures are init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how assignment statements are used with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how structures can be passed as arguments to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rrays of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ain the initialization of structure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34440" y="928800"/>
            <a:ext cx="426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Bubble Sort-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568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8440" y="2057400"/>
            <a:ext cx="825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printf("\nThe sorted array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for(i=0;i&lt;5;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printf("\n%d", arr_num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getc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133720"/>
            <a:ext cx="2209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512892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ion Sort-1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655800" cy="3962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69800" y="-2465280"/>
            <a:ext cx="114120" cy="342720"/>
          </a:xfrm>
          <a:custGeom>
            <a:avLst/>
            <a:gdLst>
              <a:gd name="textAreaLeft" fmla="*/ 15120 w 114120"/>
              <a:gd name="textAreaRight" fmla="*/ 99000 w 114120"/>
              <a:gd name="textAreaTop" fmla="*/ 59760 h 342720"/>
              <a:gd name="textAreaBottom" fmla="*/ 24840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47720" y="-2522520"/>
            <a:ext cx="36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47720" y="-252252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7720" y="-252252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19076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H="1" flipV="1">
            <a:off x="4969800" y="-2465280"/>
            <a:ext cx="114120" cy="342720"/>
          </a:xfrm>
          <a:custGeom>
            <a:avLst/>
            <a:gdLst>
              <a:gd name="textAreaLeft" fmla="*/ 15120 w 114120"/>
              <a:gd name="textAreaRight" fmla="*/ 99000 w 114120"/>
              <a:gd name="textAreaTop" fmla="*/ 59760 h 342720"/>
              <a:gd name="textAreaBottom" fmla="*/ 248400 h 34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47720" y="-2522520"/>
            <a:ext cx="36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47720" y="-252252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7720" y="-252252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7640" y="1976040"/>
            <a:ext cx="81500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include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 i, j, arr[5] = { 23, 90, 9, 25, 16 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ar fla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rscr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*Loop to compare each element of the unsorted part of the array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(i=1; i&lt;5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*Loop for each element in the sorted part of the array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for(j=0, flag='n'; j&lt;i &amp;&amp; flag=='n'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arr[j]&gt;arr[i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       /*Invoke the function to insert the number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insertnum(arr, i, j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flag='y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ntf("\n\nThe sorted array\n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for(i=0; i&lt;5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printf("%d\t", arr[i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c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939960"/>
            <a:ext cx="512892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nsertion Sort-2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47720" y="-2522520"/>
            <a:ext cx="36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47720" y="-252252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47720" y="-2522520"/>
            <a:ext cx="263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47720" y="-252252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7640" y="2399760"/>
            <a:ext cx="8150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num(int arrnum[], int x, int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Store the number to be inserted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mp=arrnum[x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Loop to push the sorted part of the array down from the position where the number has to inserted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(;x&gt;y; x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num[x]=arrnum[x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Insert the number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num[x]=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928800"/>
            <a:ext cx="512892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Insertion Sort-3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32240" y="928800"/>
            <a:ext cx="42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Objectives -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20968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pointers to struc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how structure pointers can be passed as argument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the typedef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Explain array sorting with the Selection sort and Bubble sort metho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52920" y="838080"/>
            <a:ext cx="35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tructur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8520" y="2013120"/>
            <a:ext cx="851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ructure consists of a number of data items, which need not be of the same data type, group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ructure could hold as many of these items as des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36600" y="3581280"/>
            <a:ext cx="1232280" cy="958320"/>
            <a:chOff x="336600" y="3581280"/>
            <a:chExt cx="1232280" cy="958320"/>
          </a:xfrm>
        </p:grpSpPr>
        <p:sp>
          <p:nvSpPr>
            <p:cNvPr id="108" name="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6600" y="4079880"/>
              <a:ext cx="12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6520" y="3581280"/>
            <a:ext cx="1351080" cy="3202920"/>
            <a:chOff x="1676520" y="3581280"/>
            <a:chExt cx="1351080" cy="3202920"/>
          </a:xfrm>
        </p:grpSpPr>
        <p:grpSp>
          <p:nvGrpSpPr>
            <p:cNvPr id="111" name=""/>
            <p:cNvGrpSpPr/>
            <p:nvPr/>
          </p:nvGrpSpPr>
          <p:grpSpPr>
            <a:xfrm>
              <a:off x="1676520" y="3581280"/>
              <a:ext cx="380880" cy="3165480"/>
              <a:chOff x="1676520" y="3581280"/>
              <a:chExt cx="380880" cy="31654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7652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76520" y="3978360"/>
                <a:ext cx="3808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76520" y="437184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76520" y="4768920"/>
                <a:ext cx="3808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5178600"/>
                <a:ext cx="3808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6520" y="5575320"/>
                <a:ext cx="3808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76520" y="5969160"/>
                <a:ext cx="3808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76520" y="6365880"/>
                <a:ext cx="38088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5160" y="6324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Ar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682720" y="3581280"/>
            <a:ext cx="5928120" cy="2629080"/>
            <a:chOff x="2682720" y="3581280"/>
            <a:chExt cx="5928120" cy="2629080"/>
          </a:xfrm>
        </p:grpSpPr>
        <p:grpSp>
          <p:nvGrpSpPr>
            <p:cNvPr id="122" name=""/>
            <p:cNvGrpSpPr/>
            <p:nvPr/>
          </p:nvGrpSpPr>
          <p:grpSpPr>
            <a:xfrm>
              <a:off x="2682720" y="3581280"/>
              <a:ext cx="5921640" cy="381240"/>
              <a:chOff x="2682720" y="3581280"/>
              <a:chExt cx="5921640" cy="381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682720" y="3581280"/>
                <a:ext cx="38124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7656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3280" y="3581280"/>
                <a:ext cx="38124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712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6420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5768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05476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5472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51440" y="3581280"/>
                <a:ext cx="38124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4528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42000" y="3581280"/>
                <a:ext cx="38124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3584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32560" y="3581280"/>
                <a:ext cx="38124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26400" y="3581280"/>
                <a:ext cx="38088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c1c1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3120" y="3581280"/>
                <a:ext cx="381240" cy="381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 txBox="1"/>
            <p:nvPr/>
          </p:nvSpPr>
          <p:spPr>
            <a:xfrm rot="5400000">
              <a:off x="4038120" y="2895480"/>
              <a:ext cx="533520" cy="297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}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 rot="5400000">
              <a:off x="6362640" y="3619440"/>
              <a:ext cx="533520" cy="152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00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}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48720" y="403848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1480" y="48006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ame of the b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6400" y="480060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uth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30840" y="495288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E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191120" y="5562720"/>
              <a:ext cx="28954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Structure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10280" y="928800"/>
            <a:ext cx="636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Defining a Struc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8440" y="2139840"/>
            <a:ext cx="781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ructure definition forms a template for creating structur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riables in the structure are called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ructure e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ructure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truct c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 bk_name [2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char author [2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int ed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float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}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36960" y="1050840"/>
            <a:ext cx="76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eclaring Structure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69920"/>
            <a:ext cx="82533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the structure has been defined, one or more variables of that type can be decl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struct cat books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tement sets aside enough memory to hold all items in 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4956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uct cat {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ar bk_name[2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ar author[2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 ed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oat pr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} books1, books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9880" y="3886200"/>
            <a:ext cx="2438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ther ways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5094360" y="4648320"/>
            <a:ext cx="3916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uct cat books1, books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uct cat books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uct cat books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819160" y="43434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3434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9880" y="1050840"/>
            <a:ext cx="76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ccessing Structure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440" y="2057400"/>
            <a:ext cx="8253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elements are referenced through the us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t operat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.), also known as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mbership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structure_name.element_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scanf(“%s”, books1.bk_nam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90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Initializing Structures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017440"/>
            <a:ext cx="84978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variables and arrays, structure variables can be initialized at the point of declar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ruct employe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 n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har name [20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mp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mp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typ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be declared and initialized a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ruct employee emp1 = {346, “Abraham”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ruct employee emp2 = {347, “John”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92240" y="457200"/>
            <a:ext cx="779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ssignment Statements Us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ith Structures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8440" y="2517840"/>
            <a:ext cx="8253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to assign the values of one structure variable to another variable of the same type using a simple assignmen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if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oks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oks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structure variables of the same type, the following statement is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books2 = books1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07:28:21Z</dcterms:created>
  <dc:creator>Amit Shindore</dc:creator>
  <dc:description/>
  <dc:language>en-US</dc:language>
  <cp:lastModifiedBy>Blake</cp:lastModifiedBy>
  <dcterms:modified xsi:type="dcterms:W3CDTF">2004-09-29T08:35:50Z</dcterms:modified>
  <cp:revision>580</cp:revision>
  <dc:subject/>
  <dc:title>PowerPoint Presentation</dc:title>
</cp:coreProperties>
</file>