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6.wmf" ContentType="image/x-wmf"/>
  <Override PartName="/ppt/media/image2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5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lementary Programming with C/Session 1/ </a:t>
            </a:r>
            <a:fld id="{E0A47DCF-69ED-4470-B88C-4B59AB404A2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Basics of C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33520" y="2514600"/>
            <a:ext cx="8304840" cy="3504600"/>
            <a:chOff x="533520" y="2514600"/>
            <a:chExt cx="8304840" cy="3504600"/>
          </a:xfrm>
        </p:grpSpPr>
        <p:sp>
          <p:nvSpPr>
            <p:cNvPr id="168" name=""/>
            <p:cNvSpPr txBox="1"/>
            <p:nvPr/>
          </p:nvSpPr>
          <p:spPr>
            <a:xfrm>
              <a:off x="533520" y="2514600"/>
              <a:ext cx="3989880" cy="85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e4a8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Delimiters { ... }</a:t>
              </a:r>
              <a:endParaRPr b="0" lang="en-US" sz="2400" spc="1" strike="noStrike">
                <a:ln w="0">
                  <a:noFill/>
                </a:ln>
                <a:solidFill>
                  <a:srgbClr val="00e4a8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33520" y="3916440"/>
              <a:ext cx="7246080" cy="466920"/>
              <a:chOff x="533520" y="3916440"/>
              <a:chExt cx="7246080" cy="466920"/>
            </a:xfrm>
          </p:grpSpPr>
          <p:graphicFrame>
            <p:nvGraphicFramePr>
              <p:cNvPr id="170" name=""/>
              <p:cNvGraphicFramePr/>
              <p:nvPr/>
            </p:nvGraphicFramePr>
            <p:xfrm>
              <a:off x="533520" y="3916440"/>
              <a:ext cx="3246480" cy="466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3520" y="3916440"/>
                        <a:ext cx="324648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2" name=""/>
              <p:cNvGraphicFramePr/>
              <p:nvPr/>
            </p:nvGraphicFramePr>
            <p:xfrm>
              <a:off x="3774960" y="3916440"/>
              <a:ext cx="4004640" cy="466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774960" y="3916440"/>
                        <a:ext cx="4004640" cy="466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74" name=""/>
            <p:cNvGrpSpPr/>
            <p:nvPr/>
          </p:nvGrpSpPr>
          <p:grpSpPr>
            <a:xfrm>
              <a:off x="533520" y="4583880"/>
              <a:ext cx="6415560" cy="416520"/>
              <a:chOff x="533520" y="4583880"/>
              <a:chExt cx="6415560" cy="416520"/>
            </a:xfrm>
          </p:grpSpPr>
          <p:graphicFrame>
            <p:nvGraphicFramePr>
              <p:cNvPr id="175" name=""/>
              <p:cNvGraphicFramePr/>
              <p:nvPr/>
            </p:nvGraphicFramePr>
            <p:xfrm>
              <a:off x="533520" y="4583880"/>
              <a:ext cx="3226320" cy="416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3520" y="4583880"/>
                        <a:ext cx="3226320" cy="41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" name=""/>
              <p:cNvGraphicFramePr/>
              <p:nvPr/>
            </p:nvGraphicFramePr>
            <p:xfrm>
              <a:off x="3773520" y="4585320"/>
              <a:ext cx="3175560" cy="407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773520" y="4585320"/>
                        <a:ext cx="3175560" cy="40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79" name=""/>
            <p:cNvGrpSpPr/>
            <p:nvPr/>
          </p:nvGrpSpPr>
          <p:grpSpPr>
            <a:xfrm>
              <a:off x="533520" y="5211720"/>
              <a:ext cx="8304840" cy="807480"/>
              <a:chOff x="533520" y="5211720"/>
              <a:chExt cx="8304840" cy="807480"/>
            </a:xfrm>
          </p:grpSpPr>
          <p:graphicFrame>
            <p:nvGraphicFramePr>
              <p:cNvPr id="180" name=""/>
              <p:cNvGraphicFramePr/>
              <p:nvPr/>
            </p:nvGraphicFramePr>
            <p:xfrm>
              <a:off x="533520" y="5211720"/>
              <a:ext cx="8304840" cy="416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33520" y="5211720"/>
                        <a:ext cx="8304840" cy="41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533520" y="5630040"/>
              <a:ext cx="4070880" cy="3891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33520" y="5630040"/>
                        <a:ext cx="4070880" cy="38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84" name=""/>
          <p:cNvSpPr/>
          <p:nvPr/>
        </p:nvSpPr>
        <p:spPr>
          <a:xfrm>
            <a:off x="1090440" y="22860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C Program Structure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380880" y="2362320"/>
            <a:ext cx="8457480" cy="3352320"/>
            <a:chOff x="380880" y="2362320"/>
            <a:chExt cx="8457480" cy="3352320"/>
          </a:xfrm>
        </p:grpSpPr>
        <p:sp>
          <p:nvSpPr>
            <p:cNvPr id="186" name=""/>
            <p:cNvSpPr txBox="1"/>
            <p:nvPr/>
          </p:nvSpPr>
          <p:spPr>
            <a:xfrm>
              <a:off x="380880" y="2362320"/>
              <a:ext cx="4707720" cy="13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e4a8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Statement Terminator .... ;</a:t>
              </a:r>
              <a:endParaRPr b="0" lang="en-US" sz="2400" spc="1" strike="noStrike">
                <a:ln w="0">
                  <a:noFill/>
                </a:ln>
                <a:solidFill>
                  <a:srgbClr val="00e4a8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540000" y="3834000"/>
            <a:ext cx="5301360" cy="45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000" y="3834000"/>
                      <a:ext cx="530136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"/>
            <p:cNvGraphicFramePr/>
            <p:nvPr/>
          </p:nvGraphicFramePr>
          <p:xfrm>
            <a:off x="540000" y="4570200"/>
            <a:ext cx="8298360" cy="47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0" y="4570200"/>
                      <a:ext cx="8298360" cy="4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540000" y="5349960"/>
            <a:ext cx="8298360" cy="364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0000" y="5349960"/>
                      <a:ext cx="8298360" cy="36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3" name=""/>
          <p:cNvSpPr/>
          <p:nvPr/>
        </p:nvSpPr>
        <p:spPr>
          <a:xfrm>
            <a:off x="1090440" y="22860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C Program Structure-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533520" y="2286000"/>
            <a:ext cx="8153280" cy="3510720"/>
            <a:chOff x="533520" y="2286000"/>
            <a:chExt cx="8153280" cy="3510720"/>
          </a:xfrm>
        </p:grpSpPr>
        <p:sp>
          <p:nvSpPr>
            <p:cNvPr id="195" name=""/>
            <p:cNvSpPr txBox="1"/>
            <p:nvPr/>
          </p:nvSpPr>
          <p:spPr>
            <a:xfrm>
              <a:off x="533520" y="2286000"/>
              <a:ext cx="5486400" cy="121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e4a8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/* Comment Lines */</a:t>
              </a:r>
              <a:endParaRPr b="0" lang="en-US" sz="2400" spc="1" strike="noStrike">
                <a:ln w="0">
                  <a:noFill/>
                </a:ln>
                <a:solidFill>
                  <a:srgbClr val="00e4a8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09480" y="4047840"/>
              <a:ext cx="8077320" cy="705600"/>
              <a:chOff x="609480" y="4047840"/>
              <a:chExt cx="8077320" cy="705600"/>
            </a:xfrm>
          </p:grpSpPr>
          <p:graphicFrame>
            <p:nvGraphicFramePr>
              <p:cNvPr id="197" name=""/>
              <p:cNvGraphicFramePr/>
              <p:nvPr/>
            </p:nvGraphicFramePr>
            <p:xfrm>
              <a:off x="609480" y="4047840"/>
              <a:ext cx="8077320" cy="410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4047840"/>
                        <a:ext cx="8077320" cy="41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9" name=""/>
              <p:cNvGraphicFramePr/>
              <p:nvPr/>
            </p:nvGraphicFramePr>
            <p:xfrm>
              <a:off x="609480" y="4419000"/>
              <a:ext cx="838440" cy="334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9480" y="4419000"/>
                        <a:ext cx="838440" cy="33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1" name=""/>
            <p:cNvGrpSpPr/>
            <p:nvPr/>
          </p:nvGrpSpPr>
          <p:grpSpPr>
            <a:xfrm>
              <a:off x="609480" y="4952880"/>
              <a:ext cx="7696440" cy="843840"/>
              <a:chOff x="609480" y="4952880"/>
              <a:chExt cx="7696440" cy="843840"/>
            </a:xfrm>
          </p:grpSpPr>
          <p:graphicFrame>
            <p:nvGraphicFramePr>
              <p:cNvPr id="202" name=""/>
              <p:cNvGraphicFramePr/>
              <p:nvPr/>
            </p:nvGraphicFramePr>
            <p:xfrm>
              <a:off x="609480" y="4952880"/>
              <a:ext cx="7696440" cy="429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09480" y="4952880"/>
                        <a:ext cx="7696440" cy="42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4" name=""/>
              <p:cNvGraphicFramePr/>
              <p:nvPr/>
            </p:nvGraphicFramePr>
            <p:xfrm>
              <a:off x="609480" y="5380920"/>
              <a:ext cx="4114800" cy="4158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9480" y="5380920"/>
                        <a:ext cx="4114800" cy="41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06" name=""/>
          <p:cNvSpPr/>
          <p:nvPr/>
        </p:nvSpPr>
        <p:spPr>
          <a:xfrm>
            <a:off x="1090440" y="22860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C Program Structure-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09120" y="1014480"/>
            <a:ext cx="418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C Libr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2362320"/>
            <a:ext cx="2514240" cy="2831760"/>
            <a:chOff x="0" y="2362320"/>
            <a:chExt cx="2514240" cy="2831760"/>
          </a:xfrm>
        </p:grpSpPr>
        <p:sp>
          <p:nvSpPr>
            <p:cNvPr id="209" name=""/>
            <p:cNvSpPr/>
            <p:nvPr/>
          </p:nvSpPr>
          <p:spPr>
            <a:xfrm>
              <a:off x="171000" y="2684880"/>
              <a:ext cx="1781640" cy="2412360"/>
            </a:xfrm>
            <a:custGeom>
              <a:avLst/>
              <a:gdLst/>
              <a:ahLst/>
              <a:rect l="l" t="t" r="r" b="b"/>
              <a:pathLst>
                <a:path w="3306" h="3530">
                  <a:moveTo>
                    <a:pt x="119" y="0"/>
                  </a:moveTo>
                  <a:lnTo>
                    <a:pt x="121" y="395"/>
                  </a:lnTo>
                  <a:lnTo>
                    <a:pt x="13" y="683"/>
                  </a:lnTo>
                  <a:lnTo>
                    <a:pt x="469" y="1053"/>
                  </a:lnTo>
                  <a:lnTo>
                    <a:pt x="0" y="2051"/>
                  </a:lnTo>
                  <a:lnTo>
                    <a:pt x="722" y="3530"/>
                  </a:lnTo>
                  <a:lnTo>
                    <a:pt x="2254" y="3332"/>
                  </a:lnTo>
                  <a:lnTo>
                    <a:pt x="3306" y="2424"/>
                  </a:lnTo>
                  <a:lnTo>
                    <a:pt x="2287" y="285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9800" y="3502080"/>
              <a:ext cx="402840" cy="860760"/>
            </a:xfrm>
            <a:custGeom>
              <a:avLst/>
              <a:gdLst/>
              <a:ahLst/>
              <a:rect l="l" t="t" r="r" b="b"/>
              <a:pathLst>
                <a:path w="750" h="1260">
                  <a:moveTo>
                    <a:pt x="386" y="0"/>
                  </a:moveTo>
                  <a:lnTo>
                    <a:pt x="0" y="62"/>
                  </a:lnTo>
                  <a:lnTo>
                    <a:pt x="48" y="175"/>
                  </a:lnTo>
                  <a:lnTo>
                    <a:pt x="750" y="1260"/>
                  </a:lnTo>
                  <a:lnTo>
                    <a:pt x="438" y="163"/>
                  </a:lnTo>
                  <a:lnTo>
                    <a:pt x="386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" y="3925800"/>
              <a:ext cx="1003320" cy="1209240"/>
            </a:xfrm>
            <a:custGeom>
              <a:avLst/>
              <a:gdLst/>
              <a:ahLst/>
              <a:rect l="l" t="t" r="r" b="b"/>
              <a:pathLst>
                <a:path w="1862" h="1770">
                  <a:moveTo>
                    <a:pt x="318" y="0"/>
                  </a:moveTo>
                  <a:lnTo>
                    <a:pt x="0" y="120"/>
                  </a:lnTo>
                  <a:lnTo>
                    <a:pt x="845" y="1770"/>
                  </a:lnTo>
                  <a:lnTo>
                    <a:pt x="1862" y="1715"/>
                  </a:lnTo>
                  <a:lnTo>
                    <a:pt x="926" y="1523"/>
                  </a:lnTo>
                  <a:lnTo>
                    <a:pt x="263" y="202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680" y="2386800"/>
              <a:ext cx="1174680" cy="753120"/>
            </a:xfrm>
            <a:custGeom>
              <a:avLst/>
              <a:gdLst/>
              <a:ahLst/>
              <a:rect l="l" t="t" r="r" b="b"/>
              <a:pathLst>
                <a:path w="2181" h="1100">
                  <a:moveTo>
                    <a:pt x="1884" y="0"/>
                  </a:moveTo>
                  <a:lnTo>
                    <a:pt x="25" y="353"/>
                  </a:lnTo>
                  <a:lnTo>
                    <a:pt x="0" y="431"/>
                  </a:lnTo>
                  <a:lnTo>
                    <a:pt x="1789" y="1100"/>
                  </a:lnTo>
                  <a:lnTo>
                    <a:pt x="2181" y="941"/>
                  </a:lnTo>
                  <a:lnTo>
                    <a:pt x="1087" y="585"/>
                  </a:lnTo>
                  <a:lnTo>
                    <a:pt x="1943" y="97"/>
                  </a:lnTo>
                  <a:lnTo>
                    <a:pt x="1884" y="0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00" y="3029040"/>
              <a:ext cx="1252440" cy="717480"/>
            </a:xfrm>
            <a:custGeom>
              <a:avLst/>
              <a:gdLst/>
              <a:ahLst/>
              <a:rect l="l" t="t" r="r" b="b"/>
              <a:pathLst>
                <a:path w="2325" h="1051">
                  <a:moveTo>
                    <a:pt x="310" y="0"/>
                  </a:moveTo>
                  <a:lnTo>
                    <a:pt x="0" y="129"/>
                  </a:lnTo>
                  <a:lnTo>
                    <a:pt x="0" y="220"/>
                  </a:lnTo>
                  <a:lnTo>
                    <a:pt x="1738" y="1051"/>
                  </a:lnTo>
                  <a:lnTo>
                    <a:pt x="2291" y="884"/>
                  </a:lnTo>
                  <a:lnTo>
                    <a:pt x="2325" y="734"/>
                  </a:lnTo>
                  <a:lnTo>
                    <a:pt x="2027" y="709"/>
                  </a:lnTo>
                  <a:lnTo>
                    <a:pt x="1730" y="819"/>
                  </a:lnTo>
                  <a:lnTo>
                    <a:pt x="266" y="165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f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1440" y="3369600"/>
              <a:ext cx="943200" cy="951120"/>
            </a:xfrm>
            <a:custGeom>
              <a:avLst/>
              <a:gdLst/>
              <a:ahLst/>
              <a:rect l="l" t="t" r="r" b="b"/>
              <a:pathLst>
                <a:path w="1751" h="1391">
                  <a:moveTo>
                    <a:pt x="7" y="76"/>
                  </a:moveTo>
                  <a:lnTo>
                    <a:pt x="0" y="232"/>
                  </a:lnTo>
                  <a:lnTo>
                    <a:pt x="13" y="405"/>
                  </a:lnTo>
                  <a:lnTo>
                    <a:pt x="101" y="494"/>
                  </a:lnTo>
                  <a:lnTo>
                    <a:pt x="291" y="540"/>
                  </a:lnTo>
                  <a:lnTo>
                    <a:pt x="1036" y="1087"/>
                  </a:lnTo>
                  <a:lnTo>
                    <a:pt x="1365" y="1340"/>
                  </a:lnTo>
                  <a:lnTo>
                    <a:pt x="1603" y="1391"/>
                  </a:lnTo>
                  <a:lnTo>
                    <a:pt x="1570" y="1076"/>
                  </a:lnTo>
                  <a:lnTo>
                    <a:pt x="1751" y="599"/>
                  </a:lnTo>
                  <a:lnTo>
                    <a:pt x="1384" y="580"/>
                  </a:lnTo>
                  <a:lnTo>
                    <a:pt x="64" y="0"/>
                  </a:lnTo>
                  <a:lnTo>
                    <a:pt x="7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6000" y="2558880"/>
              <a:ext cx="1142280" cy="343080"/>
            </a:xfrm>
            <a:custGeom>
              <a:avLst/>
              <a:gdLst/>
              <a:ahLst/>
              <a:rect l="l" t="t" r="r" b="b"/>
              <a:pathLst>
                <a:path w="2120" h="502">
                  <a:moveTo>
                    <a:pt x="0" y="376"/>
                  </a:moveTo>
                  <a:lnTo>
                    <a:pt x="69" y="351"/>
                  </a:lnTo>
                  <a:lnTo>
                    <a:pt x="246" y="306"/>
                  </a:lnTo>
                  <a:lnTo>
                    <a:pt x="362" y="277"/>
                  </a:lnTo>
                  <a:lnTo>
                    <a:pt x="493" y="245"/>
                  </a:lnTo>
                  <a:lnTo>
                    <a:pt x="632" y="213"/>
                  </a:lnTo>
                  <a:lnTo>
                    <a:pt x="776" y="178"/>
                  </a:lnTo>
                  <a:lnTo>
                    <a:pt x="921" y="144"/>
                  </a:lnTo>
                  <a:lnTo>
                    <a:pt x="1059" y="112"/>
                  </a:lnTo>
                  <a:lnTo>
                    <a:pt x="1191" y="81"/>
                  </a:lnTo>
                  <a:lnTo>
                    <a:pt x="1307" y="55"/>
                  </a:lnTo>
                  <a:lnTo>
                    <a:pt x="1482" y="15"/>
                  </a:lnTo>
                  <a:lnTo>
                    <a:pt x="1548" y="0"/>
                  </a:lnTo>
                  <a:lnTo>
                    <a:pt x="2120" y="97"/>
                  </a:lnTo>
                  <a:lnTo>
                    <a:pt x="204" y="502"/>
                  </a:lnTo>
                  <a:lnTo>
                    <a:pt x="0" y="376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9800" y="3804120"/>
              <a:ext cx="179640" cy="366120"/>
            </a:xfrm>
            <a:custGeom>
              <a:avLst/>
              <a:gdLst/>
              <a:ahLst/>
              <a:rect l="l" t="t" r="r" b="b"/>
              <a:pathLst>
                <a:path w="335" h="536">
                  <a:moveTo>
                    <a:pt x="97" y="0"/>
                  </a:moveTo>
                  <a:lnTo>
                    <a:pt x="335" y="26"/>
                  </a:lnTo>
                  <a:lnTo>
                    <a:pt x="175" y="309"/>
                  </a:lnTo>
                  <a:lnTo>
                    <a:pt x="143" y="536"/>
                  </a:lnTo>
                  <a:lnTo>
                    <a:pt x="0" y="450"/>
                  </a:lnTo>
                  <a:lnTo>
                    <a:pt x="32" y="102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8400" y="4169160"/>
              <a:ext cx="293760" cy="217080"/>
            </a:xfrm>
            <a:custGeom>
              <a:avLst/>
              <a:gdLst/>
              <a:ahLst/>
              <a:rect l="l" t="t" r="r" b="b"/>
              <a:pathLst>
                <a:path w="545" h="317">
                  <a:moveTo>
                    <a:pt x="0" y="21"/>
                  </a:moveTo>
                  <a:lnTo>
                    <a:pt x="224" y="0"/>
                  </a:lnTo>
                  <a:lnTo>
                    <a:pt x="545" y="258"/>
                  </a:lnTo>
                  <a:lnTo>
                    <a:pt x="57" y="31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8480" y="4407120"/>
              <a:ext cx="1651320" cy="661320"/>
            </a:xfrm>
            <a:custGeom>
              <a:avLst/>
              <a:gdLst/>
              <a:ahLst/>
              <a:rect l="l" t="t" r="r" b="b"/>
              <a:pathLst>
                <a:path w="3063" h="967">
                  <a:moveTo>
                    <a:pt x="200" y="387"/>
                  </a:moveTo>
                  <a:lnTo>
                    <a:pt x="168" y="579"/>
                  </a:lnTo>
                  <a:lnTo>
                    <a:pt x="0" y="773"/>
                  </a:lnTo>
                  <a:lnTo>
                    <a:pt x="727" y="967"/>
                  </a:lnTo>
                  <a:lnTo>
                    <a:pt x="2170" y="832"/>
                  </a:lnTo>
                  <a:lnTo>
                    <a:pt x="2272" y="792"/>
                  </a:lnTo>
                  <a:lnTo>
                    <a:pt x="2464" y="832"/>
                  </a:lnTo>
                  <a:lnTo>
                    <a:pt x="2632" y="811"/>
                  </a:lnTo>
                  <a:lnTo>
                    <a:pt x="2818" y="781"/>
                  </a:lnTo>
                  <a:lnTo>
                    <a:pt x="2862" y="747"/>
                  </a:lnTo>
                  <a:lnTo>
                    <a:pt x="2932" y="688"/>
                  </a:lnTo>
                  <a:lnTo>
                    <a:pt x="2997" y="631"/>
                  </a:lnTo>
                  <a:lnTo>
                    <a:pt x="3025" y="606"/>
                  </a:lnTo>
                  <a:lnTo>
                    <a:pt x="3063" y="239"/>
                  </a:lnTo>
                  <a:lnTo>
                    <a:pt x="2858" y="0"/>
                  </a:lnTo>
                  <a:lnTo>
                    <a:pt x="1854" y="180"/>
                  </a:lnTo>
                  <a:lnTo>
                    <a:pt x="200" y="387"/>
                  </a:lnTo>
                  <a:lnTo>
                    <a:pt x="200" y="387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8120" y="3563640"/>
              <a:ext cx="2125440" cy="1521000"/>
            </a:xfrm>
            <a:custGeom>
              <a:avLst/>
              <a:gdLst/>
              <a:ahLst/>
              <a:rect l="l" t="t" r="r" b="b"/>
              <a:pathLst>
                <a:path w="3945" h="2228">
                  <a:moveTo>
                    <a:pt x="19" y="38"/>
                  </a:moveTo>
                  <a:lnTo>
                    <a:pt x="173" y="0"/>
                  </a:lnTo>
                  <a:lnTo>
                    <a:pt x="264" y="238"/>
                  </a:lnTo>
                  <a:lnTo>
                    <a:pt x="393" y="274"/>
                  </a:lnTo>
                  <a:lnTo>
                    <a:pt x="1133" y="812"/>
                  </a:lnTo>
                  <a:lnTo>
                    <a:pt x="861" y="876"/>
                  </a:lnTo>
                  <a:lnTo>
                    <a:pt x="1042" y="1205"/>
                  </a:lnTo>
                  <a:lnTo>
                    <a:pt x="1654" y="1141"/>
                  </a:lnTo>
                  <a:lnTo>
                    <a:pt x="2053" y="1262"/>
                  </a:lnTo>
                  <a:lnTo>
                    <a:pt x="3160" y="909"/>
                  </a:lnTo>
                  <a:lnTo>
                    <a:pt x="3713" y="941"/>
                  </a:lnTo>
                  <a:lnTo>
                    <a:pt x="3945" y="1249"/>
                  </a:lnTo>
                  <a:lnTo>
                    <a:pt x="3882" y="1838"/>
                  </a:lnTo>
                  <a:lnTo>
                    <a:pt x="3681" y="2004"/>
                  </a:lnTo>
                  <a:lnTo>
                    <a:pt x="3268" y="2080"/>
                  </a:lnTo>
                  <a:lnTo>
                    <a:pt x="3076" y="2036"/>
                  </a:lnTo>
                  <a:lnTo>
                    <a:pt x="2922" y="2087"/>
                  </a:lnTo>
                  <a:lnTo>
                    <a:pt x="1435" y="2228"/>
                  </a:lnTo>
                  <a:lnTo>
                    <a:pt x="722" y="2053"/>
                  </a:lnTo>
                  <a:lnTo>
                    <a:pt x="1241" y="1977"/>
                  </a:lnTo>
                  <a:lnTo>
                    <a:pt x="3289" y="1815"/>
                  </a:lnTo>
                  <a:lnTo>
                    <a:pt x="3616" y="1796"/>
                  </a:lnTo>
                  <a:lnTo>
                    <a:pt x="3745" y="1494"/>
                  </a:lnTo>
                  <a:lnTo>
                    <a:pt x="3724" y="1460"/>
                  </a:lnTo>
                  <a:lnTo>
                    <a:pt x="3677" y="1384"/>
                  </a:lnTo>
                  <a:lnTo>
                    <a:pt x="3650" y="1342"/>
                  </a:lnTo>
                  <a:lnTo>
                    <a:pt x="3626" y="1304"/>
                  </a:lnTo>
                  <a:lnTo>
                    <a:pt x="3591" y="1262"/>
                  </a:lnTo>
                  <a:lnTo>
                    <a:pt x="3266" y="1296"/>
                  </a:lnTo>
                  <a:lnTo>
                    <a:pt x="3055" y="1325"/>
                  </a:lnTo>
                  <a:lnTo>
                    <a:pt x="2960" y="1340"/>
                  </a:lnTo>
                  <a:lnTo>
                    <a:pt x="1009" y="1564"/>
                  </a:lnTo>
                  <a:lnTo>
                    <a:pt x="905" y="1593"/>
                  </a:lnTo>
                  <a:lnTo>
                    <a:pt x="0" y="154"/>
                  </a:lnTo>
                  <a:lnTo>
                    <a:pt x="591" y="914"/>
                  </a:lnTo>
                  <a:lnTo>
                    <a:pt x="19" y="38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23960" y="4158000"/>
              <a:ext cx="411840" cy="157320"/>
            </a:xfrm>
            <a:custGeom>
              <a:avLst/>
              <a:gdLst/>
              <a:ahLst/>
              <a:rect l="l" t="t" r="r" b="b"/>
              <a:pathLst>
                <a:path w="764" h="230">
                  <a:moveTo>
                    <a:pt x="0" y="230"/>
                  </a:moveTo>
                  <a:lnTo>
                    <a:pt x="545" y="207"/>
                  </a:lnTo>
                  <a:lnTo>
                    <a:pt x="764" y="182"/>
                  </a:lnTo>
                  <a:lnTo>
                    <a:pt x="669" y="87"/>
                  </a:lnTo>
                  <a:lnTo>
                    <a:pt x="703" y="0"/>
                  </a:lnTo>
                  <a:lnTo>
                    <a:pt x="490" y="38"/>
                  </a:lnTo>
                  <a:lnTo>
                    <a:pt x="199" y="159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948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6040" y="3750840"/>
              <a:ext cx="182880" cy="419400"/>
            </a:xfrm>
            <a:custGeom>
              <a:avLst/>
              <a:gdLst/>
              <a:ahLst/>
              <a:rect l="l" t="t" r="r" b="b"/>
              <a:pathLst>
                <a:path w="341" h="614">
                  <a:moveTo>
                    <a:pt x="12" y="541"/>
                  </a:moveTo>
                  <a:lnTo>
                    <a:pt x="0" y="342"/>
                  </a:lnTo>
                  <a:lnTo>
                    <a:pt x="76" y="123"/>
                  </a:lnTo>
                  <a:lnTo>
                    <a:pt x="141" y="0"/>
                  </a:lnTo>
                  <a:lnTo>
                    <a:pt x="341" y="104"/>
                  </a:lnTo>
                  <a:lnTo>
                    <a:pt x="276" y="137"/>
                  </a:lnTo>
                  <a:lnTo>
                    <a:pt x="154" y="169"/>
                  </a:lnTo>
                  <a:lnTo>
                    <a:pt x="95" y="315"/>
                  </a:lnTo>
                  <a:lnTo>
                    <a:pt x="95" y="471"/>
                  </a:lnTo>
                  <a:lnTo>
                    <a:pt x="187" y="614"/>
                  </a:lnTo>
                  <a:lnTo>
                    <a:pt x="12" y="541"/>
                  </a:lnTo>
                  <a:lnTo>
                    <a:pt x="12" y="541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0600" y="2541240"/>
              <a:ext cx="960120" cy="435600"/>
            </a:xfrm>
            <a:custGeom>
              <a:avLst/>
              <a:gdLst/>
              <a:ahLst/>
              <a:rect l="l" t="t" r="r" b="b"/>
              <a:pathLst>
                <a:path w="1783" h="639">
                  <a:moveTo>
                    <a:pt x="0" y="382"/>
                  </a:moveTo>
                  <a:lnTo>
                    <a:pt x="1430" y="0"/>
                  </a:lnTo>
                  <a:lnTo>
                    <a:pt x="1616" y="40"/>
                  </a:lnTo>
                  <a:lnTo>
                    <a:pt x="346" y="397"/>
                  </a:lnTo>
                  <a:lnTo>
                    <a:pt x="1783" y="156"/>
                  </a:lnTo>
                  <a:lnTo>
                    <a:pt x="375" y="639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2520" y="4122720"/>
              <a:ext cx="412560" cy="263520"/>
            </a:xfrm>
            <a:custGeom>
              <a:avLst/>
              <a:gdLst/>
              <a:ahLst/>
              <a:rect l="l" t="t" r="r" b="b"/>
              <a:pathLst>
                <a:path w="766" h="386">
                  <a:moveTo>
                    <a:pt x="0" y="57"/>
                  </a:moveTo>
                  <a:lnTo>
                    <a:pt x="242" y="0"/>
                  </a:lnTo>
                  <a:lnTo>
                    <a:pt x="551" y="170"/>
                  </a:lnTo>
                  <a:lnTo>
                    <a:pt x="766" y="323"/>
                  </a:lnTo>
                  <a:lnTo>
                    <a:pt x="631" y="346"/>
                  </a:lnTo>
                  <a:lnTo>
                    <a:pt x="483" y="249"/>
                  </a:lnTo>
                  <a:lnTo>
                    <a:pt x="375" y="141"/>
                  </a:lnTo>
                  <a:lnTo>
                    <a:pt x="200" y="122"/>
                  </a:lnTo>
                  <a:lnTo>
                    <a:pt x="181" y="38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b8a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7280" y="3139920"/>
              <a:ext cx="312120" cy="1065960"/>
            </a:xfrm>
            <a:custGeom>
              <a:avLst/>
              <a:gdLst/>
              <a:ahLst/>
              <a:rect l="l" t="t" r="r" b="b"/>
              <a:pathLst>
                <a:path w="582" h="1561">
                  <a:moveTo>
                    <a:pt x="91" y="124"/>
                  </a:moveTo>
                  <a:lnTo>
                    <a:pt x="466" y="0"/>
                  </a:lnTo>
                  <a:lnTo>
                    <a:pt x="582" y="143"/>
                  </a:lnTo>
                  <a:lnTo>
                    <a:pt x="414" y="1000"/>
                  </a:lnTo>
                  <a:lnTo>
                    <a:pt x="240" y="1154"/>
                  </a:lnTo>
                  <a:lnTo>
                    <a:pt x="234" y="1561"/>
                  </a:lnTo>
                  <a:lnTo>
                    <a:pt x="91" y="1399"/>
                  </a:lnTo>
                  <a:lnTo>
                    <a:pt x="63" y="1213"/>
                  </a:lnTo>
                  <a:lnTo>
                    <a:pt x="34" y="1084"/>
                  </a:lnTo>
                  <a:lnTo>
                    <a:pt x="6" y="1023"/>
                  </a:lnTo>
                  <a:lnTo>
                    <a:pt x="0" y="995"/>
                  </a:lnTo>
                  <a:lnTo>
                    <a:pt x="6" y="922"/>
                  </a:lnTo>
                  <a:lnTo>
                    <a:pt x="38" y="708"/>
                  </a:lnTo>
                  <a:lnTo>
                    <a:pt x="78" y="493"/>
                  </a:lnTo>
                  <a:lnTo>
                    <a:pt x="99" y="394"/>
                  </a:lnTo>
                  <a:lnTo>
                    <a:pt x="48" y="156"/>
                  </a:lnTo>
                  <a:lnTo>
                    <a:pt x="91" y="124"/>
                  </a:lnTo>
                  <a:lnTo>
                    <a:pt x="91" y="124"/>
                  </a:lnTo>
                  <a:close/>
                </a:path>
              </a:pathLst>
            </a:custGeom>
            <a:solidFill>
              <a:srgbClr val="ff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2560" y="3096000"/>
              <a:ext cx="328680" cy="1135800"/>
            </a:xfrm>
            <a:custGeom>
              <a:avLst/>
              <a:gdLst/>
              <a:ahLst/>
              <a:rect l="l" t="t" r="r" b="b"/>
              <a:pathLst>
                <a:path w="610" h="1661">
                  <a:moveTo>
                    <a:pt x="0" y="140"/>
                  </a:moveTo>
                  <a:lnTo>
                    <a:pt x="475" y="0"/>
                  </a:lnTo>
                  <a:lnTo>
                    <a:pt x="610" y="275"/>
                  </a:lnTo>
                  <a:lnTo>
                    <a:pt x="399" y="887"/>
                  </a:lnTo>
                  <a:lnTo>
                    <a:pt x="559" y="1294"/>
                  </a:lnTo>
                  <a:lnTo>
                    <a:pt x="296" y="1235"/>
                  </a:lnTo>
                  <a:lnTo>
                    <a:pt x="180" y="1661"/>
                  </a:lnTo>
                  <a:lnTo>
                    <a:pt x="74" y="1321"/>
                  </a:lnTo>
                  <a:lnTo>
                    <a:pt x="19" y="1003"/>
                  </a:lnTo>
                  <a:lnTo>
                    <a:pt x="116" y="655"/>
                  </a:lnTo>
                  <a:lnTo>
                    <a:pt x="43" y="391"/>
                  </a:lnTo>
                  <a:lnTo>
                    <a:pt x="159" y="275"/>
                  </a:lnTo>
                  <a:lnTo>
                    <a:pt x="296" y="313"/>
                  </a:lnTo>
                  <a:lnTo>
                    <a:pt x="245" y="437"/>
                  </a:lnTo>
                  <a:lnTo>
                    <a:pt x="340" y="501"/>
                  </a:lnTo>
                  <a:lnTo>
                    <a:pt x="148" y="887"/>
                  </a:lnTo>
                  <a:lnTo>
                    <a:pt x="245" y="868"/>
                  </a:lnTo>
                  <a:lnTo>
                    <a:pt x="148" y="1159"/>
                  </a:lnTo>
                  <a:lnTo>
                    <a:pt x="275" y="1011"/>
                  </a:lnTo>
                  <a:lnTo>
                    <a:pt x="334" y="714"/>
                  </a:lnTo>
                  <a:lnTo>
                    <a:pt x="334" y="623"/>
                  </a:lnTo>
                  <a:lnTo>
                    <a:pt x="437" y="405"/>
                  </a:lnTo>
                  <a:lnTo>
                    <a:pt x="367" y="386"/>
                  </a:lnTo>
                  <a:lnTo>
                    <a:pt x="391" y="218"/>
                  </a:lnTo>
                  <a:lnTo>
                    <a:pt x="232" y="192"/>
                  </a:lnTo>
                  <a:lnTo>
                    <a:pt x="256" y="127"/>
                  </a:lnTo>
                  <a:lnTo>
                    <a:pt x="32" y="25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6280" y="3536280"/>
              <a:ext cx="550440" cy="604080"/>
            </a:xfrm>
            <a:custGeom>
              <a:avLst/>
              <a:gdLst/>
              <a:ahLst/>
              <a:rect l="l" t="t" r="r" b="b"/>
              <a:pathLst>
                <a:path w="1023" h="884">
                  <a:moveTo>
                    <a:pt x="0" y="175"/>
                  </a:moveTo>
                  <a:lnTo>
                    <a:pt x="78" y="51"/>
                  </a:lnTo>
                  <a:lnTo>
                    <a:pt x="173" y="0"/>
                  </a:lnTo>
                  <a:lnTo>
                    <a:pt x="187" y="124"/>
                  </a:lnTo>
                  <a:lnTo>
                    <a:pt x="451" y="375"/>
                  </a:lnTo>
                  <a:lnTo>
                    <a:pt x="843" y="601"/>
                  </a:lnTo>
                  <a:lnTo>
                    <a:pt x="1023" y="439"/>
                  </a:lnTo>
                  <a:lnTo>
                    <a:pt x="921" y="884"/>
                  </a:lnTo>
                  <a:lnTo>
                    <a:pt x="130" y="297"/>
                  </a:lnTo>
                  <a:lnTo>
                    <a:pt x="27" y="27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3320" y="3377880"/>
              <a:ext cx="626040" cy="457560"/>
            </a:xfrm>
            <a:custGeom>
              <a:avLst/>
              <a:gdLst/>
              <a:ahLst/>
              <a:rect l="l" t="t" r="r" b="b"/>
              <a:pathLst>
                <a:path w="1161" h="671">
                  <a:moveTo>
                    <a:pt x="41" y="52"/>
                  </a:moveTo>
                  <a:lnTo>
                    <a:pt x="0" y="131"/>
                  </a:lnTo>
                  <a:lnTo>
                    <a:pt x="184" y="156"/>
                  </a:lnTo>
                  <a:lnTo>
                    <a:pt x="988" y="574"/>
                  </a:lnTo>
                  <a:lnTo>
                    <a:pt x="1045" y="671"/>
                  </a:lnTo>
                  <a:lnTo>
                    <a:pt x="1161" y="561"/>
                  </a:lnTo>
                  <a:lnTo>
                    <a:pt x="119" y="0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30240" y="3633480"/>
              <a:ext cx="1568160" cy="792720"/>
            </a:xfrm>
            <a:custGeom>
              <a:avLst/>
              <a:gdLst/>
              <a:ahLst/>
              <a:rect l="l" t="t" r="r" b="b"/>
              <a:pathLst>
                <a:path w="2909" h="1159">
                  <a:moveTo>
                    <a:pt x="14" y="663"/>
                  </a:moveTo>
                  <a:lnTo>
                    <a:pt x="116" y="844"/>
                  </a:lnTo>
                  <a:lnTo>
                    <a:pt x="291" y="914"/>
                  </a:lnTo>
                  <a:lnTo>
                    <a:pt x="297" y="657"/>
                  </a:lnTo>
                  <a:lnTo>
                    <a:pt x="413" y="367"/>
                  </a:lnTo>
                  <a:lnTo>
                    <a:pt x="259" y="445"/>
                  </a:lnTo>
                  <a:lnTo>
                    <a:pt x="200" y="488"/>
                  </a:lnTo>
                  <a:lnTo>
                    <a:pt x="181" y="406"/>
                  </a:lnTo>
                  <a:lnTo>
                    <a:pt x="189" y="237"/>
                  </a:lnTo>
                  <a:lnTo>
                    <a:pt x="658" y="0"/>
                  </a:lnTo>
                  <a:lnTo>
                    <a:pt x="649" y="300"/>
                  </a:lnTo>
                  <a:lnTo>
                    <a:pt x="563" y="365"/>
                  </a:lnTo>
                  <a:lnTo>
                    <a:pt x="502" y="695"/>
                  </a:lnTo>
                  <a:lnTo>
                    <a:pt x="620" y="941"/>
                  </a:lnTo>
                  <a:lnTo>
                    <a:pt x="2428" y="393"/>
                  </a:lnTo>
                  <a:lnTo>
                    <a:pt x="2293" y="129"/>
                  </a:lnTo>
                  <a:lnTo>
                    <a:pt x="2909" y="386"/>
                  </a:lnTo>
                  <a:lnTo>
                    <a:pt x="2807" y="458"/>
                  </a:lnTo>
                  <a:lnTo>
                    <a:pt x="639" y="1159"/>
                  </a:lnTo>
                  <a:lnTo>
                    <a:pt x="449" y="1114"/>
                  </a:lnTo>
                  <a:lnTo>
                    <a:pt x="59" y="954"/>
                  </a:lnTo>
                  <a:lnTo>
                    <a:pt x="0" y="773"/>
                  </a:lnTo>
                  <a:lnTo>
                    <a:pt x="14" y="663"/>
                  </a:lnTo>
                  <a:lnTo>
                    <a:pt x="14" y="663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0640" y="3294360"/>
              <a:ext cx="930240" cy="515160"/>
            </a:xfrm>
            <a:custGeom>
              <a:avLst/>
              <a:gdLst/>
              <a:ahLst/>
              <a:rect l="l" t="t" r="r" b="b"/>
              <a:pathLst>
                <a:path w="1726" h="754">
                  <a:moveTo>
                    <a:pt x="129" y="270"/>
                  </a:moveTo>
                  <a:lnTo>
                    <a:pt x="817" y="0"/>
                  </a:lnTo>
                  <a:lnTo>
                    <a:pt x="1726" y="218"/>
                  </a:lnTo>
                  <a:lnTo>
                    <a:pt x="1557" y="328"/>
                  </a:lnTo>
                  <a:lnTo>
                    <a:pt x="19" y="754"/>
                  </a:lnTo>
                  <a:lnTo>
                    <a:pt x="0" y="560"/>
                  </a:lnTo>
                  <a:lnTo>
                    <a:pt x="129" y="270"/>
                  </a:lnTo>
                  <a:lnTo>
                    <a:pt x="129" y="270"/>
                  </a:lnTo>
                  <a:close/>
                </a:path>
              </a:pathLst>
            </a:custGeom>
            <a:solidFill>
              <a:srgbClr val="b56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760" y="3145320"/>
              <a:ext cx="962280" cy="677880"/>
            </a:xfrm>
            <a:custGeom>
              <a:avLst/>
              <a:gdLst/>
              <a:ahLst/>
              <a:rect l="l" t="t" r="r" b="b"/>
              <a:pathLst>
                <a:path w="1788" h="992">
                  <a:moveTo>
                    <a:pt x="0" y="59"/>
                  </a:moveTo>
                  <a:lnTo>
                    <a:pt x="31" y="0"/>
                  </a:lnTo>
                  <a:lnTo>
                    <a:pt x="1788" y="850"/>
                  </a:lnTo>
                  <a:lnTo>
                    <a:pt x="1748" y="992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0400" y="2707920"/>
              <a:ext cx="1938960" cy="831960"/>
            </a:xfrm>
            <a:custGeom>
              <a:avLst/>
              <a:gdLst/>
              <a:ahLst/>
              <a:rect l="l" t="t" r="r" b="b"/>
              <a:pathLst>
                <a:path w="3597" h="1219">
                  <a:moveTo>
                    <a:pt x="11" y="361"/>
                  </a:moveTo>
                  <a:lnTo>
                    <a:pt x="1570" y="922"/>
                  </a:lnTo>
                  <a:lnTo>
                    <a:pt x="1506" y="1219"/>
                  </a:lnTo>
                  <a:lnTo>
                    <a:pt x="1846" y="1103"/>
                  </a:lnTo>
                  <a:lnTo>
                    <a:pt x="2040" y="1025"/>
                  </a:lnTo>
                  <a:lnTo>
                    <a:pt x="1989" y="761"/>
                  </a:lnTo>
                  <a:lnTo>
                    <a:pt x="2483" y="569"/>
                  </a:lnTo>
                  <a:lnTo>
                    <a:pt x="2580" y="755"/>
                  </a:lnTo>
                  <a:lnTo>
                    <a:pt x="2523" y="1076"/>
                  </a:lnTo>
                  <a:lnTo>
                    <a:pt x="3217" y="740"/>
                  </a:lnTo>
                  <a:lnTo>
                    <a:pt x="3411" y="755"/>
                  </a:lnTo>
                  <a:lnTo>
                    <a:pt x="3597" y="400"/>
                  </a:lnTo>
                  <a:lnTo>
                    <a:pt x="3578" y="137"/>
                  </a:lnTo>
                  <a:lnTo>
                    <a:pt x="3333" y="0"/>
                  </a:lnTo>
                  <a:lnTo>
                    <a:pt x="1538" y="561"/>
                  </a:lnTo>
                  <a:lnTo>
                    <a:pt x="1403" y="631"/>
                  </a:lnTo>
                  <a:lnTo>
                    <a:pt x="0" y="149"/>
                  </a:lnTo>
                  <a:lnTo>
                    <a:pt x="11" y="361"/>
                  </a:lnTo>
                  <a:lnTo>
                    <a:pt x="11" y="36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8720" y="2382480"/>
              <a:ext cx="2070360" cy="1113840"/>
            </a:xfrm>
            <a:custGeom>
              <a:avLst/>
              <a:gdLst/>
              <a:ahLst/>
              <a:rect l="l" t="t" r="r" b="b"/>
              <a:pathLst>
                <a:path w="3842" h="1631">
                  <a:moveTo>
                    <a:pt x="0" y="407"/>
                  </a:moveTo>
                  <a:lnTo>
                    <a:pt x="1918" y="0"/>
                  </a:lnTo>
                  <a:lnTo>
                    <a:pt x="2941" y="219"/>
                  </a:lnTo>
                  <a:lnTo>
                    <a:pt x="1275" y="620"/>
                  </a:lnTo>
                  <a:lnTo>
                    <a:pt x="1661" y="755"/>
                  </a:lnTo>
                  <a:lnTo>
                    <a:pt x="3346" y="342"/>
                  </a:lnTo>
                  <a:lnTo>
                    <a:pt x="3517" y="274"/>
                  </a:lnTo>
                  <a:lnTo>
                    <a:pt x="3739" y="394"/>
                  </a:lnTo>
                  <a:lnTo>
                    <a:pt x="3836" y="542"/>
                  </a:lnTo>
                  <a:lnTo>
                    <a:pt x="3842" y="954"/>
                  </a:lnTo>
                  <a:lnTo>
                    <a:pt x="3637" y="1232"/>
                  </a:lnTo>
                  <a:lnTo>
                    <a:pt x="3443" y="1245"/>
                  </a:lnTo>
                  <a:lnTo>
                    <a:pt x="3410" y="1329"/>
                  </a:lnTo>
                  <a:lnTo>
                    <a:pt x="3237" y="1413"/>
                  </a:lnTo>
                  <a:lnTo>
                    <a:pt x="3024" y="1477"/>
                  </a:lnTo>
                  <a:lnTo>
                    <a:pt x="2728" y="1631"/>
                  </a:lnTo>
                  <a:lnTo>
                    <a:pt x="2749" y="1553"/>
                  </a:lnTo>
                  <a:lnTo>
                    <a:pt x="2844" y="1321"/>
                  </a:lnTo>
                  <a:lnTo>
                    <a:pt x="3553" y="1038"/>
                  </a:lnTo>
                  <a:lnTo>
                    <a:pt x="3688" y="871"/>
                  </a:lnTo>
                  <a:lnTo>
                    <a:pt x="3650" y="574"/>
                  </a:lnTo>
                  <a:lnTo>
                    <a:pt x="3553" y="519"/>
                  </a:lnTo>
                  <a:lnTo>
                    <a:pt x="1770" y="1013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94120" y="3615480"/>
              <a:ext cx="1064880" cy="685800"/>
            </a:xfrm>
            <a:custGeom>
              <a:avLst/>
              <a:gdLst/>
              <a:ahLst/>
              <a:rect l="l" t="t" r="r" b="b"/>
              <a:pathLst>
                <a:path w="1975" h="1006">
                  <a:moveTo>
                    <a:pt x="656" y="304"/>
                  </a:moveTo>
                  <a:lnTo>
                    <a:pt x="1827" y="0"/>
                  </a:lnTo>
                  <a:lnTo>
                    <a:pt x="1814" y="177"/>
                  </a:lnTo>
                  <a:lnTo>
                    <a:pt x="1833" y="323"/>
                  </a:lnTo>
                  <a:lnTo>
                    <a:pt x="1975" y="426"/>
                  </a:lnTo>
                  <a:lnTo>
                    <a:pt x="148" y="1006"/>
                  </a:lnTo>
                  <a:lnTo>
                    <a:pt x="51" y="954"/>
                  </a:lnTo>
                  <a:lnTo>
                    <a:pt x="0" y="787"/>
                  </a:lnTo>
                  <a:lnTo>
                    <a:pt x="70" y="445"/>
                  </a:lnTo>
                  <a:lnTo>
                    <a:pt x="141" y="407"/>
                  </a:lnTo>
                  <a:lnTo>
                    <a:pt x="316" y="755"/>
                  </a:lnTo>
                  <a:lnTo>
                    <a:pt x="407" y="835"/>
                  </a:lnTo>
                  <a:lnTo>
                    <a:pt x="418" y="529"/>
                  </a:lnTo>
                  <a:lnTo>
                    <a:pt x="527" y="426"/>
                  </a:lnTo>
                  <a:lnTo>
                    <a:pt x="743" y="498"/>
                  </a:lnTo>
                  <a:lnTo>
                    <a:pt x="656" y="304"/>
                  </a:lnTo>
                  <a:lnTo>
                    <a:pt x="656" y="3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14120" y="3391560"/>
              <a:ext cx="324360" cy="231840"/>
            </a:xfrm>
            <a:custGeom>
              <a:avLst/>
              <a:gdLst/>
              <a:ahLst/>
              <a:rect l="l" t="t" r="r" b="b"/>
              <a:pathLst>
                <a:path w="603" h="340">
                  <a:moveTo>
                    <a:pt x="0" y="295"/>
                  </a:moveTo>
                  <a:lnTo>
                    <a:pt x="400" y="257"/>
                  </a:lnTo>
                  <a:lnTo>
                    <a:pt x="379" y="340"/>
                  </a:lnTo>
                  <a:lnTo>
                    <a:pt x="559" y="270"/>
                  </a:lnTo>
                  <a:lnTo>
                    <a:pt x="603" y="0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ae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2362320"/>
              <a:ext cx="2129760" cy="952560"/>
            </a:xfrm>
            <a:custGeom>
              <a:avLst/>
              <a:gdLst/>
              <a:ahLst/>
              <a:rect l="l" t="t" r="r" b="b"/>
              <a:pathLst>
                <a:path w="3953" h="1393">
                  <a:moveTo>
                    <a:pt x="32" y="361"/>
                  </a:moveTo>
                  <a:lnTo>
                    <a:pt x="0" y="494"/>
                  </a:lnTo>
                  <a:lnTo>
                    <a:pt x="350" y="669"/>
                  </a:lnTo>
                  <a:lnTo>
                    <a:pt x="394" y="832"/>
                  </a:lnTo>
                  <a:lnTo>
                    <a:pt x="403" y="975"/>
                  </a:lnTo>
                  <a:lnTo>
                    <a:pt x="359" y="1140"/>
                  </a:lnTo>
                  <a:lnTo>
                    <a:pt x="470" y="998"/>
                  </a:lnTo>
                  <a:lnTo>
                    <a:pt x="525" y="832"/>
                  </a:lnTo>
                  <a:lnTo>
                    <a:pt x="513" y="713"/>
                  </a:lnTo>
                  <a:lnTo>
                    <a:pt x="1850" y="1184"/>
                  </a:lnTo>
                  <a:lnTo>
                    <a:pt x="3755" y="547"/>
                  </a:lnTo>
                  <a:lnTo>
                    <a:pt x="3810" y="713"/>
                  </a:lnTo>
                  <a:lnTo>
                    <a:pt x="3810" y="899"/>
                  </a:lnTo>
                  <a:lnTo>
                    <a:pt x="3679" y="1062"/>
                  </a:lnTo>
                  <a:lnTo>
                    <a:pt x="3053" y="1321"/>
                  </a:lnTo>
                  <a:lnTo>
                    <a:pt x="3021" y="1393"/>
                  </a:lnTo>
                  <a:lnTo>
                    <a:pt x="3746" y="1117"/>
                  </a:lnTo>
                  <a:lnTo>
                    <a:pt x="3888" y="1019"/>
                  </a:lnTo>
                  <a:lnTo>
                    <a:pt x="3953" y="855"/>
                  </a:lnTo>
                  <a:lnTo>
                    <a:pt x="3932" y="635"/>
                  </a:lnTo>
                  <a:lnTo>
                    <a:pt x="3833" y="515"/>
                  </a:lnTo>
                  <a:lnTo>
                    <a:pt x="3734" y="471"/>
                  </a:lnTo>
                  <a:lnTo>
                    <a:pt x="3472" y="591"/>
                  </a:lnTo>
                  <a:lnTo>
                    <a:pt x="1894" y="963"/>
                  </a:lnTo>
                  <a:lnTo>
                    <a:pt x="363" y="490"/>
                  </a:lnTo>
                  <a:lnTo>
                    <a:pt x="1806" y="1041"/>
                  </a:lnTo>
                  <a:lnTo>
                    <a:pt x="1806" y="1096"/>
                  </a:lnTo>
                  <a:lnTo>
                    <a:pt x="65" y="460"/>
                  </a:lnTo>
                  <a:lnTo>
                    <a:pt x="120" y="405"/>
                  </a:lnTo>
                  <a:lnTo>
                    <a:pt x="2057" y="55"/>
                  </a:lnTo>
                  <a:lnTo>
                    <a:pt x="3006" y="230"/>
                  </a:lnTo>
                  <a:lnTo>
                    <a:pt x="2004" y="0"/>
                  </a:lnTo>
                  <a:lnTo>
                    <a:pt x="32" y="361"/>
                  </a:lnTo>
                  <a:lnTo>
                    <a:pt x="32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0" y="2999160"/>
              <a:ext cx="1313640" cy="844560"/>
            </a:xfrm>
            <a:custGeom>
              <a:avLst/>
              <a:gdLst/>
              <a:ahLst/>
              <a:rect l="l" t="t" r="r" b="b"/>
              <a:pathLst>
                <a:path w="2440" h="1236">
                  <a:moveTo>
                    <a:pt x="413" y="0"/>
                  </a:moveTo>
                  <a:lnTo>
                    <a:pt x="36" y="135"/>
                  </a:lnTo>
                  <a:lnTo>
                    <a:pt x="0" y="272"/>
                  </a:lnTo>
                  <a:lnTo>
                    <a:pt x="1856" y="1236"/>
                  </a:lnTo>
                  <a:lnTo>
                    <a:pt x="2369" y="979"/>
                  </a:lnTo>
                  <a:lnTo>
                    <a:pt x="2440" y="806"/>
                  </a:lnTo>
                  <a:lnTo>
                    <a:pt x="1869" y="1028"/>
                  </a:lnTo>
                  <a:lnTo>
                    <a:pt x="578" y="435"/>
                  </a:lnTo>
                  <a:lnTo>
                    <a:pt x="1805" y="1070"/>
                  </a:lnTo>
                  <a:lnTo>
                    <a:pt x="1833" y="1163"/>
                  </a:lnTo>
                  <a:lnTo>
                    <a:pt x="114" y="272"/>
                  </a:lnTo>
                  <a:lnTo>
                    <a:pt x="99" y="192"/>
                  </a:lnTo>
                  <a:lnTo>
                    <a:pt x="407" y="70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9040" y="3096000"/>
              <a:ext cx="1099440" cy="515160"/>
            </a:xfrm>
            <a:custGeom>
              <a:avLst/>
              <a:gdLst/>
              <a:ahLst/>
              <a:rect l="l" t="t" r="r" b="b"/>
              <a:pathLst>
                <a:path w="2040" h="752">
                  <a:moveTo>
                    <a:pt x="0" y="106"/>
                  </a:moveTo>
                  <a:lnTo>
                    <a:pt x="1394" y="752"/>
                  </a:lnTo>
                  <a:lnTo>
                    <a:pt x="2040" y="486"/>
                  </a:lnTo>
                  <a:lnTo>
                    <a:pt x="2040" y="431"/>
                  </a:lnTo>
                  <a:lnTo>
                    <a:pt x="1546" y="621"/>
                  </a:lnTo>
                  <a:lnTo>
                    <a:pt x="1616" y="463"/>
                  </a:lnTo>
                  <a:lnTo>
                    <a:pt x="1865" y="363"/>
                  </a:lnTo>
                  <a:lnTo>
                    <a:pt x="1595" y="393"/>
                  </a:lnTo>
                  <a:lnTo>
                    <a:pt x="1580" y="220"/>
                  </a:lnTo>
                  <a:lnTo>
                    <a:pt x="1489" y="28"/>
                  </a:lnTo>
                  <a:lnTo>
                    <a:pt x="1424" y="72"/>
                  </a:lnTo>
                  <a:lnTo>
                    <a:pt x="1502" y="220"/>
                  </a:lnTo>
                  <a:lnTo>
                    <a:pt x="852" y="0"/>
                  </a:lnTo>
                  <a:lnTo>
                    <a:pt x="1502" y="321"/>
                  </a:lnTo>
                  <a:lnTo>
                    <a:pt x="1521" y="418"/>
                  </a:lnTo>
                  <a:lnTo>
                    <a:pt x="1470" y="538"/>
                  </a:lnTo>
                  <a:lnTo>
                    <a:pt x="460" y="142"/>
                  </a:lnTo>
                  <a:lnTo>
                    <a:pt x="1464" y="600"/>
                  </a:lnTo>
                  <a:lnTo>
                    <a:pt x="1394" y="695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56320" y="2900880"/>
              <a:ext cx="769320" cy="1284480"/>
            </a:xfrm>
            <a:custGeom>
              <a:avLst/>
              <a:gdLst/>
              <a:ahLst/>
              <a:rect l="l" t="t" r="r" b="b"/>
              <a:pathLst>
                <a:path w="1427" h="1880">
                  <a:moveTo>
                    <a:pt x="0" y="486"/>
                  </a:moveTo>
                  <a:lnTo>
                    <a:pt x="528" y="328"/>
                  </a:lnTo>
                  <a:lnTo>
                    <a:pt x="1427" y="0"/>
                  </a:lnTo>
                  <a:lnTo>
                    <a:pt x="806" y="315"/>
                  </a:lnTo>
                  <a:lnTo>
                    <a:pt x="912" y="444"/>
                  </a:lnTo>
                  <a:lnTo>
                    <a:pt x="912" y="600"/>
                  </a:lnTo>
                  <a:lnTo>
                    <a:pt x="827" y="865"/>
                  </a:lnTo>
                  <a:lnTo>
                    <a:pt x="713" y="1152"/>
                  </a:lnTo>
                  <a:lnTo>
                    <a:pt x="707" y="1307"/>
                  </a:lnTo>
                  <a:lnTo>
                    <a:pt x="813" y="1543"/>
                  </a:lnTo>
                  <a:lnTo>
                    <a:pt x="656" y="1359"/>
                  </a:lnTo>
                  <a:lnTo>
                    <a:pt x="635" y="1157"/>
                  </a:lnTo>
                  <a:lnTo>
                    <a:pt x="756" y="823"/>
                  </a:lnTo>
                  <a:lnTo>
                    <a:pt x="849" y="579"/>
                  </a:lnTo>
                  <a:lnTo>
                    <a:pt x="707" y="323"/>
                  </a:lnTo>
                  <a:lnTo>
                    <a:pt x="313" y="473"/>
                  </a:lnTo>
                  <a:lnTo>
                    <a:pt x="349" y="551"/>
                  </a:lnTo>
                  <a:lnTo>
                    <a:pt x="378" y="750"/>
                  </a:lnTo>
                  <a:lnTo>
                    <a:pt x="342" y="979"/>
                  </a:lnTo>
                  <a:lnTo>
                    <a:pt x="285" y="1201"/>
                  </a:lnTo>
                  <a:lnTo>
                    <a:pt x="264" y="1429"/>
                  </a:lnTo>
                  <a:lnTo>
                    <a:pt x="328" y="1651"/>
                  </a:lnTo>
                  <a:lnTo>
                    <a:pt x="477" y="1880"/>
                  </a:lnTo>
                  <a:lnTo>
                    <a:pt x="321" y="1786"/>
                  </a:lnTo>
                  <a:lnTo>
                    <a:pt x="214" y="1543"/>
                  </a:lnTo>
                  <a:lnTo>
                    <a:pt x="192" y="1273"/>
                  </a:lnTo>
                  <a:lnTo>
                    <a:pt x="271" y="922"/>
                  </a:lnTo>
                  <a:lnTo>
                    <a:pt x="300" y="709"/>
                  </a:lnTo>
                  <a:lnTo>
                    <a:pt x="192" y="501"/>
                  </a:lnTo>
                  <a:lnTo>
                    <a:pt x="0" y="486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5720" y="3882240"/>
              <a:ext cx="199080" cy="303120"/>
            </a:xfrm>
            <a:custGeom>
              <a:avLst/>
              <a:gdLst/>
              <a:ahLst/>
              <a:rect l="l" t="t" r="r" b="b"/>
              <a:pathLst>
                <a:path w="370" h="443">
                  <a:moveTo>
                    <a:pt x="34" y="443"/>
                  </a:moveTo>
                  <a:lnTo>
                    <a:pt x="0" y="207"/>
                  </a:lnTo>
                  <a:lnTo>
                    <a:pt x="93" y="0"/>
                  </a:lnTo>
                  <a:lnTo>
                    <a:pt x="178" y="7"/>
                  </a:lnTo>
                  <a:lnTo>
                    <a:pt x="370" y="106"/>
                  </a:lnTo>
                  <a:lnTo>
                    <a:pt x="142" y="85"/>
                  </a:lnTo>
                  <a:lnTo>
                    <a:pt x="62" y="214"/>
                  </a:lnTo>
                  <a:lnTo>
                    <a:pt x="34" y="443"/>
                  </a:lnTo>
                  <a:lnTo>
                    <a:pt x="34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64920" y="2583360"/>
              <a:ext cx="629280" cy="952560"/>
            </a:xfrm>
            <a:custGeom>
              <a:avLst/>
              <a:gdLst/>
              <a:ahLst/>
              <a:rect l="l" t="t" r="r" b="b"/>
              <a:pathLst>
                <a:path w="1170" h="1393">
                  <a:moveTo>
                    <a:pt x="86" y="1222"/>
                  </a:moveTo>
                  <a:lnTo>
                    <a:pt x="742" y="922"/>
                  </a:lnTo>
                  <a:lnTo>
                    <a:pt x="896" y="905"/>
                  </a:lnTo>
                  <a:lnTo>
                    <a:pt x="1006" y="800"/>
                  </a:lnTo>
                  <a:lnTo>
                    <a:pt x="1107" y="551"/>
                  </a:lnTo>
                  <a:lnTo>
                    <a:pt x="1063" y="207"/>
                  </a:lnTo>
                  <a:lnTo>
                    <a:pt x="901" y="66"/>
                  </a:lnTo>
                  <a:lnTo>
                    <a:pt x="616" y="160"/>
                  </a:lnTo>
                  <a:lnTo>
                    <a:pt x="852" y="0"/>
                  </a:lnTo>
                  <a:lnTo>
                    <a:pt x="1006" y="51"/>
                  </a:lnTo>
                  <a:lnTo>
                    <a:pt x="1135" y="194"/>
                  </a:lnTo>
                  <a:lnTo>
                    <a:pt x="1170" y="479"/>
                  </a:lnTo>
                  <a:lnTo>
                    <a:pt x="1156" y="678"/>
                  </a:lnTo>
                  <a:lnTo>
                    <a:pt x="1023" y="931"/>
                  </a:lnTo>
                  <a:lnTo>
                    <a:pt x="936" y="984"/>
                  </a:lnTo>
                  <a:lnTo>
                    <a:pt x="778" y="979"/>
                  </a:lnTo>
                  <a:lnTo>
                    <a:pt x="0" y="1393"/>
                  </a:lnTo>
                  <a:lnTo>
                    <a:pt x="86" y="1222"/>
                  </a:lnTo>
                  <a:lnTo>
                    <a:pt x="86" y="1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3080" y="3359880"/>
              <a:ext cx="2261160" cy="1108440"/>
            </a:xfrm>
            <a:custGeom>
              <a:avLst/>
              <a:gdLst/>
              <a:ahLst/>
              <a:rect l="l" t="t" r="r" b="b"/>
              <a:pathLst>
                <a:path w="4196" h="1621">
                  <a:moveTo>
                    <a:pt x="57" y="0"/>
                  </a:moveTo>
                  <a:lnTo>
                    <a:pt x="0" y="127"/>
                  </a:lnTo>
                  <a:lnTo>
                    <a:pt x="7" y="414"/>
                  </a:lnTo>
                  <a:lnTo>
                    <a:pt x="85" y="577"/>
                  </a:lnTo>
                  <a:lnTo>
                    <a:pt x="214" y="621"/>
                  </a:lnTo>
                  <a:lnTo>
                    <a:pt x="435" y="805"/>
                  </a:lnTo>
                  <a:lnTo>
                    <a:pt x="977" y="1178"/>
                  </a:lnTo>
                  <a:lnTo>
                    <a:pt x="1099" y="1199"/>
                  </a:lnTo>
                  <a:lnTo>
                    <a:pt x="1254" y="1285"/>
                  </a:lnTo>
                  <a:lnTo>
                    <a:pt x="1306" y="1385"/>
                  </a:lnTo>
                  <a:lnTo>
                    <a:pt x="1718" y="1600"/>
                  </a:lnTo>
                  <a:lnTo>
                    <a:pt x="1891" y="1621"/>
                  </a:lnTo>
                  <a:lnTo>
                    <a:pt x="4196" y="899"/>
                  </a:lnTo>
                  <a:lnTo>
                    <a:pt x="4175" y="743"/>
                  </a:lnTo>
                  <a:lnTo>
                    <a:pt x="3561" y="549"/>
                  </a:lnTo>
                  <a:lnTo>
                    <a:pt x="4131" y="800"/>
                  </a:lnTo>
                  <a:lnTo>
                    <a:pt x="1863" y="1513"/>
                  </a:lnTo>
                  <a:lnTo>
                    <a:pt x="1718" y="1385"/>
                  </a:lnTo>
                  <a:lnTo>
                    <a:pt x="1648" y="1199"/>
                  </a:lnTo>
                  <a:lnTo>
                    <a:pt x="1705" y="834"/>
                  </a:lnTo>
                  <a:lnTo>
                    <a:pt x="1604" y="1013"/>
                  </a:lnTo>
                  <a:lnTo>
                    <a:pt x="1583" y="1199"/>
                  </a:lnTo>
                  <a:lnTo>
                    <a:pt x="1648" y="1435"/>
                  </a:lnTo>
                  <a:lnTo>
                    <a:pt x="1705" y="1513"/>
                  </a:lnTo>
                  <a:lnTo>
                    <a:pt x="1370" y="1349"/>
                  </a:lnTo>
                  <a:lnTo>
                    <a:pt x="1306" y="1191"/>
                  </a:lnTo>
                  <a:lnTo>
                    <a:pt x="1291" y="956"/>
                  </a:lnTo>
                  <a:lnTo>
                    <a:pt x="1334" y="792"/>
                  </a:lnTo>
                  <a:lnTo>
                    <a:pt x="1254" y="914"/>
                  </a:lnTo>
                  <a:lnTo>
                    <a:pt x="1226" y="1085"/>
                  </a:lnTo>
                  <a:lnTo>
                    <a:pt x="1213" y="1186"/>
                  </a:lnTo>
                  <a:lnTo>
                    <a:pt x="1091" y="1106"/>
                  </a:lnTo>
                  <a:lnTo>
                    <a:pt x="1070" y="899"/>
                  </a:lnTo>
                  <a:lnTo>
                    <a:pt x="1135" y="657"/>
                  </a:lnTo>
                  <a:lnTo>
                    <a:pt x="1057" y="764"/>
                  </a:lnTo>
                  <a:lnTo>
                    <a:pt x="1000" y="927"/>
                  </a:lnTo>
                  <a:lnTo>
                    <a:pt x="1000" y="1098"/>
                  </a:lnTo>
                  <a:lnTo>
                    <a:pt x="235" y="570"/>
                  </a:lnTo>
                  <a:lnTo>
                    <a:pt x="228" y="414"/>
                  </a:lnTo>
                  <a:lnTo>
                    <a:pt x="235" y="285"/>
                  </a:lnTo>
                  <a:lnTo>
                    <a:pt x="171" y="370"/>
                  </a:lnTo>
                  <a:lnTo>
                    <a:pt x="135" y="507"/>
                  </a:lnTo>
                  <a:lnTo>
                    <a:pt x="57" y="363"/>
                  </a:lnTo>
                  <a:lnTo>
                    <a:pt x="57" y="155"/>
                  </a:lnTo>
                  <a:lnTo>
                    <a:pt x="192" y="7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79000" y="3838680"/>
              <a:ext cx="207720" cy="400320"/>
            </a:xfrm>
            <a:custGeom>
              <a:avLst/>
              <a:gdLst/>
              <a:ahLst/>
              <a:rect l="l" t="t" r="r" b="b"/>
              <a:pathLst>
                <a:path w="386" h="586">
                  <a:moveTo>
                    <a:pt x="187" y="0"/>
                  </a:moveTo>
                  <a:lnTo>
                    <a:pt x="101" y="65"/>
                  </a:lnTo>
                  <a:lnTo>
                    <a:pt x="59" y="179"/>
                  </a:lnTo>
                  <a:lnTo>
                    <a:pt x="0" y="451"/>
                  </a:lnTo>
                  <a:lnTo>
                    <a:pt x="59" y="586"/>
                  </a:lnTo>
                  <a:lnTo>
                    <a:pt x="386" y="479"/>
                  </a:lnTo>
                  <a:lnTo>
                    <a:pt x="308" y="399"/>
                  </a:lnTo>
                  <a:lnTo>
                    <a:pt x="101" y="458"/>
                  </a:lnTo>
                  <a:lnTo>
                    <a:pt x="109" y="236"/>
                  </a:lnTo>
                  <a:lnTo>
                    <a:pt x="202" y="158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10840" y="4005360"/>
              <a:ext cx="326520" cy="140400"/>
            </a:xfrm>
            <a:custGeom>
              <a:avLst/>
              <a:gdLst/>
              <a:ahLst/>
              <a:rect l="l" t="t" r="r" b="b"/>
              <a:pathLst>
                <a:path w="607" h="208">
                  <a:moveTo>
                    <a:pt x="13" y="128"/>
                  </a:moveTo>
                  <a:lnTo>
                    <a:pt x="607" y="0"/>
                  </a:lnTo>
                  <a:lnTo>
                    <a:pt x="0" y="208"/>
                  </a:lnTo>
                  <a:lnTo>
                    <a:pt x="13" y="128"/>
                  </a:lnTo>
                  <a:lnTo>
                    <a:pt x="1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9800" y="3511800"/>
              <a:ext cx="2118960" cy="1305000"/>
            </a:xfrm>
            <a:custGeom>
              <a:avLst/>
              <a:gdLst/>
              <a:ahLst/>
              <a:rect l="l" t="t" r="r" b="b"/>
              <a:pathLst>
                <a:path w="3932" h="1908">
                  <a:moveTo>
                    <a:pt x="314" y="0"/>
                  </a:moveTo>
                  <a:lnTo>
                    <a:pt x="0" y="47"/>
                  </a:lnTo>
                  <a:lnTo>
                    <a:pt x="10" y="162"/>
                  </a:lnTo>
                  <a:lnTo>
                    <a:pt x="993" y="1722"/>
                  </a:lnTo>
                  <a:lnTo>
                    <a:pt x="3619" y="1426"/>
                  </a:lnTo>
                  <a:lnTo>
                    <a:pt x="3740" y="1483"/>
                  </a:lnTo>
                  <a:lnTo>
                    <a:pt x="3809" y="1593"/>
                  </a:lnTo>
                  <a:lnTo>
                    <a:pt x="3725" y="1827"/>
                  </a:lnTo>
                  <a:lnTo>
                    <a:pt x="3290" y="1908"/>
                  </a:lnTo>
                  <a:lnTo>
                    <a:pt x="3744" y="1908"/>
                  </a:lnTo>
                  <a:lnTo>
                    <a:pt x="3932" y="1621"/>
                  </a:lnTo>
                  <a:lnTo>
                    <a:pt x="3921" y="1388"/>
                  </a:lnTo>
                  <a:lnTo>
                    <a:pt x="3839" y="1279"/>
                  </a:lnTo>
                  <a:lnTo>
                    <a:pt x="3383" y="1340"/>
                  </a:lnTo>
                  <a:lnTo>
                    <a:pt x="3299" y="1376"/>
                  </a:lnTo>
                  <a:lnTo>
                    <a:pt x="3200" y="1340"/>
                  </a:lnTo>
                  <a:lnTo>
                    <a:pt x="1136" y="1583"/>
                  </a:lnTo>
                  <a:lnTo>
                    <a:pt x="495" y="684"/>
                  </a:lnTo>
                  <a:lnTo>
                    <a:pt x="1065" y="1591"/>
                  </a:lnTo>
                  <a:lnTo>
                    <a:pt x="1014" y="1667"/>
                  </a:lnTo>
                  <a:lnTo>
                    <a:pt x="40" y="89"/>
                  </a:lnTo>
                  <a:lnTo>
                    <a:pt x="289" y="47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4880" y="3804120"/>
              <a:ext cx="380160" cy="1127520"/>
            </a:xfrm>
            <a:custGeom>
              <a:avLst/>
              <a:gdLst/>
              <a:ahLst/>
              <a:rect l="l" t="t" r="r" b="b"/>
              <a:pathLst>
                <a:path w="705" h="1650">
                  <a:moveTo>
                    <a:pt x="91" y="0"/>
                  </a:moveTo>
                  <a:lnTo>
                    <a:pt x="107" y="121"/>
                  </a:lnTo>
                  <a:lnTo>
                    <a:pt x="86" y="224"/>
                  </a:lnTo>
                  <a:lnTo>
                    <a:pt x="50" y="292"/>
                  </a:lnTo>
                  <a:lnTo>
                    <a:pt x="0" y="328"/>
                  </a:lnTo>
                  <a:lnTo>
                    <a:pt x="185" y="678"/>
                  </a:lnTo>
                  <a:lnTo>
                    <a:pt x="705" y="1650"/>
                  </a:lnTo>
                  <a:lnTo>
                    <a:pt x="321" y="777"/>
                  </a:lnTo>
                  <a:lnTo>
                    <a:pt x="86" y="328"/>
                  </a:lnTo>
                  <a:lnTo>
                    <a:pt x="314" y="598"/>
                  </a:lnTo>
                  <a:lnTo>
                    <a:pt x="135" y="243"/>
                  </a:lnTo>
                  <a:lnTo>
                    <a:pt x="185" y="114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400" y="3903840"/>
              <a:ext cx="2274120" cy="1290240"/>
            </a:xfrm>
            <a:custGeom>
              <a:avLst/>
              <a:gdLst/>
              <a:ahLst/>
              <a:rect l="l" t="t" r="r" b="b"/>
              <a:pathLst>
                <a:path w="4221" h="1890">
                  <a:moveTo>
                    <a:pt x="329" y="0"/>
                  </a:moveTo>
                  <a:lnTo>
                    <a:pt x="154" y="80"/>
                  </a:lnTo>
                  <a:lnTo>
                    <a:pt x="15" y="110"/>
                  </a:lnTo>
                  <a:lnTo>
                    <a:pt x="0" y="203"/>
                  </a:lnTo>
                  <a:lnTo>
                    <a:pt x="572" y="1279"/>
                  </a:lnTo>
                  <a:lnTo>
                    <a:pt x="818" y="1890"/>
                  </a:lnTo>
                  <a:lnTo>
                    <a:pt x="3259" y="1589"/>
                  </a:lnTo>
                  <a:lnTo>
                    <a:pt x="3350" y="1559"/>
                  </a:lnTo>
                  <a:lnTo>
                    <a:pt x="3480" y="1602"/>
                  </a:lnTo>
                  <a:lnTo>
                    <a:pt x="3923" y="1544"/>
                  </a:lnTo>
                  <a:lnTo>
                    <a:pt x="4120" y="1361"/>
                  </a:lnTo>
                  <a:lnTo>
                    <a:pt x="4221" y="911"/>
                  </a:lnTo>
                  <a:lnTo>
                    <a:pt x="4151" y="587"/>
                  </a:lnTo>
                  <a:lnTo>
                    <a:pt x="3841" y="316"/>
                  </a:lnTo>
                  <a:lnTo>
                    <a:pt x="3234" y="468"/>
                  </a:lnTo>
                  <a:lnTo>
                    <a:pt x="3778" y="479"/>
                  </a:lnTo>
                  <a:lnTo>
                    <a:pt x="4012" y="658"/>
                  </a:lnTo>
                  <a:lnTo>
                    <a:pt x="4116" y="814"/>
                  </a:lnTo>
                  <a:lnTo>
                    <a:pt x="4124" y="1046"/>
                  </a:lnTo>
                  <a:lnTo>
                    <a:pt x="4037" y="1323"/>
                  </a:lnTo>
                  <a:lnTo>
                    <a:pt x="3924" y="1449"/>
                  </a:lnTo>
                  <a:lnTo>
                    <a:pt x="3567" y="1496"/>
                  </a:lnTo>
                  <a:lnTo>
                    <a:pt x="3407" y="1445"/>
                  </a:lnTo>
                  <a:lnTo>
                    <a:pt x="3191" y="1553"/>
                  </a:lnTo>
                  <a:lnTo>
                    <a:pt x="886" y="1753"/>
                  </a:lnTo>
                  <a:lnTo>
                    <a:pt x="69" y="139"/>
                  </a:lnTo>
                  <a:lnTo>
                    <a:pt x="348" y="53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7280" y="4535640"/>
              <a:ext cx="1149840" cy="430200"/>
            </a:xfrm>
            <a:custGeom>
              <a:avLst/>
              <a:gdLst/>
              <a:ahLst/>
              <a:rect l="l" t="t" r="r" b="b"/>
              <a:pathLst>
                <a:path w="2134" h="629">
                  <a:moveTo>
                    <a:pt x="0" y="629"/>
                  </a:moveTo>
                  <a:lnTo>
                    <a:pt x="171" y="471"/>
                  </a:lnTo>
                  <a:lnTo>
                    <a:pt x="249" y="329"/>
                  </a:lnTo>
                  <a:lnTo>
                    <a:pt x="228" y="158"/>
                  </a:lnTo>
                  <a:lnTo>
                    <a:pt x="1548" y="0"/>
                  </a:lnTo>
                  <a:lnTo>
                    <a:pt x="371" y="201"/>
                  </a:lnTo>
                  <a:lnTo>
                    <a:pt x="320" y="344"/>
                  </a:lnTo>
                  <a:lnTo>
                    <a:pt x="1327" y="287"/>
                  </a:lnTo>
                  <a:lnTo>
                    <a:pt x="299" y="437"/>
                  </a:lnTo>
                  <a:lnTo>
                    <a:pt x="242" y="494"/>
                  </a:lnTo>
                  <a:lnTo>
                    <a:pt x="185" y="528"/>
                  </a:lnTo>
                  <a:lnTo>
                    <a:pt x="2134" y="422"/>
                  </a:lnTo>
                  <a:lnTo>
                    <a:pt x="0" y="629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9440" y="4122720"/>
              <a:ext cx="526680" cy="291960"/>
            </a:xfrm>
            <a:custGeom>
              <a:avLst/>
              <a:gdLst/>
              <a:ahLst/>
              <a:rect l="l" t="t" r="r" b="b"/>
              <a:pathLst>
                <a:path w="977" h="428">
                  <a:moveTo>
                    <a:pt x="377" y="0"/>
                  </a:moveTo>
                  <a:lnTo>
                    <a:pt x="0" y="19"/>
                  </a:lnTo>
                  <a:lnTo>
                    <a:pt x="285" y="428"/>
                  </a:lnTo>
                  <a:lnTo>
                    <a:pt x="977" y="375"/>
                  </a:lnTo>
                  <a:lnTo>
                    <a:pt x="901" y="323"/>
                  </a:lnTo>
                  <a:lnTo>
                    <a:pt x="337" y="342"/>
                  </a:lnTo>
                  <a:lnTo>
                    <a:pt x="186" y="92"/>
                  </a:lnTo>
                  <a:lnTo>
                    <a:pt x="464" y="25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62680" y="4299120"/>
              <a:ext cx="455760" cy="74880"/>
            </a:xfrm>
            <a:custGeom>
              <a:avLst/>
              <a:gdLst/>
              <a:ahLst/>
              <a:rect l="l" t="t" r="r" b="b"/>
              <a:pathLst>
                <a:path w="846" h="108">
                  <a:moveTo>
                    <a:pt x="0" y="108"/>
                  </a:moveTo>
                  <a:lnTo>
                    <a:pt x="145" y="91"/>
                  </a:lnTo>
                  <a:lnTo>
                    <a:pt x="434" y="55"/>
                  </a:lnTo>
                  <a:lnTo>
                    <a:pt x="719" y="17"/>
                  </a:lnTo>
                  <a:lnTo>
                    <a:pt x="846" y="0"/>
                  </a:lnTo>
                  <a:lnTo>
                    <a:pt x="211" y="23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2480" y="2527560"/>
              <a:ext cx="1266120" cy="397440"/>
            </a:xfrm>
            <a:custGeom>
              <a:avLst/>
              <a:gdLst/>
              <a:ahLst/>
              <a:rect l="l" t="t" r="r" b="b"/>
              <a:pathLst>
                <a:path w="2350" h="582">
                  <a:moveTo>
                    <a:pt x="2350" y="126"/>
                  </a:moveTo>
                  <a:lnTo>
                    <a:pt x="1966" y="61"/>
                  </a:lnTo>
                  <a:lnTo>
                    <a:pt x="1896" y="6"/>
                  </a:lnTo>
                  <a:lnTo>
                    <a:pt x="1791" y="0"/>
                  </a:lnTo>
                  <a:lnTo>
                    <a:pt x="0" y="397"/>
                  </a:lnTo>
                  <a:lnTo>
                    <a:pt x="580" y="582"/>
                  </a:lnTo>
                  <a:lnTo>
                    <a:pt x="2097" y="198"/>
                  </a:lnTo>
                  <a:lnTo>
                    <a:pt x="557" y="496"/>
                  </a:lnTo>
                  <a:lnTo>
                    <a:pt x="400" y="394"/>
                  </a:lnTo>
                  <a:lnTo>
                    <a:pt x="1803" y="55"/>
                  </a:lnTo>
                  <a:lnTo>
                    <a:pt x="1902" y="82"/>
                  </a:lnTo>
                  <a:lnTo>
                    <a:pt x="2350" y="126"/>
                  </a:lnTo>
                  <a:lnTo>
                    <a:pt x="23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10280" y="3345120"/>
              <a:ext cx="656280" cy="335880"/>
            </a:xfrm>
            <a:custGeom>
              <a:avLst/>
              <a:gdLst/>
              <a:ahLst/>
              <a:rect l="l" t="t" r="r" b="b"/>
              <a:pathLst>
                <a:path w="1217" h="492">
                  <a:moveTo>
                    <a:pt x="0" y="492"/>
                  </a:moveTo>
                  <a:lnTo>
                    <a:pt x="350" y="152"/>
                  </a:lnTo>
                  <a:lnTo>
                    <a:pt x="854" y="0"/>
                  </a:lnTo>
                  <a:lnTo>
                    <a:pt x="1217" y="152"/>
                  </a:lnTo>
                  <a:lnTo>
                    <a:pt x="0" y="492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89880" y="3267000"/>
              <a:ext cx="1167120" cy="1032120"/>
            </a:xfrm>
            <a:custGeom>
              <a:avLst/>
              <a:gdLst/>
              <a:ahLst/>
              <a:rect l="l" t="t" r="r" b="b"/>
              <a:pathLst>
                <a:path w="2165" h="1511">
                  <a:moveTo>
                    <a:pt x="1209" y="0"/>
                  </a:moveTo>
                  <a:lnTo>
                    <a:pt x="2122" y="243"/>
                  </a:lnTo>
                  <a:lnTo>
                    <a:pt x="2165" y="386"/>
                  </a:lnTo>
                  <a:lnTo>
                    <a:pt x="1722" y="536"/>
                  </a:lnTo>
                  <a:lnTo>
                    <a:pt x="1665" y="650"/>
                  </a:lnTo>
                  <a:lnTo>
                    <a:pt x="1694" y="779"/>
                  </a:lnTo>
                  <a:lnTo>
                    <a:pt x="1758" y="872"/>
                  </a:lnTo>
                  <a:lnTo>
                    <a:pt x="1886" y="942"/>
                  </a:lnTo>
                  <a:lnTo>
                    <a:pt x="0" y="1511"/>
                  </a:lnTo>
                  <a:lnTo>
                    <a:pt x="1736" y="922"/>
                  </a:lnTo>
                  <a:lnTo>
                    <a:pt x="1622" y="851"/>
                  </a:lnTo>
                  <a:lnTo>
                    <a:pt x="1066" y="971"/>
                  </a:lnTo>
                  <a:lnTo>
                    <a:pt x="1593" y="771"/>
                  </a:lnTo>
                  <a:lnTo>
                    <a:pt x="1601" y="608"/>
                  </a:lnTo>
                  <a:lnTo>
                    <a:pt x="473" y="857"/>
                  </a:lnTo>
                  <a:lnTo>
                    <a:pt x="445" y="737"/>
                  </a:lnTo>
                  <a:lnTo>
                    <a:pt x="2114" y="291"/>
                  </a:lnTo>
                  <a:lnTo>
                    <a:pt x="1264" y="87"/>
                  </a:lnTo>
                  <a:lnTo>
                    <a:pt x="610" y="302"/>
                  </a:lnTo>
                  <a:lnTo>
                    <a:pt x="1209" y="0"/>
                  </a:lnTo>
                  <a:lnTo>
                    <a:pt x="1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54000" y="4188240"/>
              <a:ext cx="205560" cy="124560"/>
            </a:xfrm>
            <a:custGeom>
              <a:avLst/>
              <a:gdLst/>
              <a:ahLst/>
              <a:rect l="l" t="t" r="r" b="b"/>
              <a:pathLst>
                <a:path w="383" h="183">
                  <a:moveTo>
                    <a:pt x="253" y="0"/>
                  </a:moveTo>
                  <a:lnTo>
                    <a:pt x="383" y="156"/>
                  </a:lnTo>
                  <a:lnTo>
                    <a:pt x="0" y="183"/>
                  </a:lnTo>
                  <a:lnTo>
                    <a:pt x="217" y="114"/>
                  </a:lnTo>
                  <a:lnTo>
                    <a:pt x="166" y="17"/>
                  </a:lnTo>
                  <a:lnTo>
                    <a:pt x="253" y="0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345760" y="1962000"/>
            <a:ext cx="664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C compilers come with a stand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library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02280" y="3173400"/>
            <a:ext cx="677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function written by a programm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can be placed in the library and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45400" y="4603680"/>
            <a:ext cx="62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mpilers allow function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be added in the standard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35320" y="5670720"/>
            <a:ext cx="63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mpilers require a separ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library to be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3049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Compiling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&amp; Running A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 Programming Approach to Solving Problem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921280" y="1981080"/>
            <a:ext cx="2133360" cy="1974960"/>
            <a:chOff x="5921280" y="1981080"/>
            <a:chExt cx="2133360" cy="197496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5921280" y="2286000"/>
              <a:ext cx="20937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378480" y="198108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57760" y="2209680"/>
            <a:ext cx="2167560" cy="1143000"/>
            <a:chOff x="3857760" y="2209680"/>
            <a:chExt cx="2167560" cy="114300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3857760" y="2209680"/>
              <a:ext cx="7603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738320" y="2765520"/>
              <a:ext cx="1287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ving t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02320" y="2590920"/>
              <a:ext cx="1066680" cy="228600"/>
            </a:xfrm>
            <a:prstGeom prst="leftArrow">
              <a:avLst>
                <a:gd name="adj1" fmla="val 50000"/>
                <a:gd name="adj2" fmla="val 116654"/>
              </a:avLst>
            </a:prstGeom>
            <a:solidFill>
              <a:srgbClr val="d7d2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00200" y="2687400"/>
            <a:ext cx="2647440" cy="1579680"/>
            <a:chOff x="1600200" y="2687400"/>
            <a:chExt cx="2647440" cy="157968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rcRect l="23660" t="23660" r="31733" b="31733"/>
            <a:stretch/>
          </p:blipFill>
          <p:spPr>
            <a:xfrm>
              <a:off x="1600200" y="35053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680200" y="3270240"/>
              <a:ext cx="1567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ead toward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 stairc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160000">
              <a:off x="2362320" y="2971440"/>
              <a:ext cx="1447560" cy="228600"/>
            </a:xfrm>
            <a:prstGeom prst="leftArrow">
              <a:avLst>
                <a:gd name="adj1" fmla="val 50000"/>
                <a:gd name="adj2" fmla="val 158307"/>
              </a:avLst>
            </a:prstGeom>
            <a:solidFill>
              <a:srgbClr val="d7d2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860400" y="4219560"/>
            <a:ext cx="112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 to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098440" y="4727520"/>
            <a:ext cx="3392640" cy="1837440"/>
            <a:chOff x="2098440" y="4727520"/>
            <a:chExt cx="3392640" cy="1837440"/>
          </a:xfrm>
        </p:grpSpPr>
        <p:grpSp>
          <p:nvGrpSpPr>
            <p:cNvPr id="274" name=""/>
            <p:cNvGrpSpPr/>
            <p:nvPr/>
          </p:nvGrpSpPr>
          <p:grpSpPr>
            <a:xfrm>
              <a:off x="2098440" y="4727520"/>
              <a:ext cx="3392640" cy="1536840"/>
              <a:chOff x="2098440" y="4727520"/>
              <a:chExt cx="3392640" cy="1536840"/>
            </a:xfrm>
          </p:grpSpPr>
          <p:pic>
            <p:nvPicPr>
              <p:cNvPr id="2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7920" y="5029200"/>
                <a:ext cx="170316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1355400">
                <a:off x="2568600" y="4952880"/>
                <a:ext cx="1219320" cy="228600"/>
              </a:xfrm>
              <a:prstGeom prst="rightArrow">
                <a:avLst>
                  <a:gd name="adj1" fmla="val 50000"/>
                  <a:gd name="adj2" fmla="val 133346"/>
                </a:avLst>
              </a:prstGeom>
              <a:solidFill>
                <a:srgbClr val="d7d2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98440" y="5280120"/>
                <a:ext cx="1380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Head for t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afeter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4076640" y="622764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fete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8600" y="2130480"/>
            <a:ext cx="358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gorithm is a set of steps  that are performed to solve a problem. The example below describes an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540864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se are the steps followed when a student wants to go to the cafeteria from the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Solving a Problem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2133720"/>
            <a:ext cx="5181840" cy="457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33526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57600" y="3124080"/>
            <a:ext cx="3276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 the problem cl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2670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3962520"/>
            <a:ext cx="3276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 the releva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51814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876920"/>
            <a:ext cx="3276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791320"/>
            <a:ext cx="3276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 at th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60958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2590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seudocode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9461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actual code. A method of algorithm - writing which uses a standard set of words which makes it resemb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6920" y="4968720"/>
            <a:ext cx="64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seudocode starts with a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0600" y="5510160"/>
            <a:ext cx="80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how some value , the word DISPLAY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8160" y="5967360"/>
            <a:ext cx="70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seudocode  finishes with an END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408480"/>
            <a:ext cx="45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59640" y="3781440"/>
            <a:ext cx="39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ISPLAY ‘Hello World 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03560" y="420516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Flowchart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981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is a graphical representation of a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2666880"/>
            <a:ext cx="220968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4038480"/>
            <a:ext cx="6324480" cy="762120"/>
          </a:xfrm>
          <a:prstGeom prst="parallelogram">
            <a:avLst>
              <a:gd name="adj" fmla="val 2074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PLAY ‘Hello World !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5562720"/>
            <a:ext cx="22096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4800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he Flowchart Symbol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8814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1080" y="1905120"/>
          <a:ext cx="533412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33412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 between Command, Program an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the beginning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lain when and why is C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 the C program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raw flow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the symbols used in flowchar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Flowchart to add two numbers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211464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2057400"/>
          <a:ext cx="670572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7057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he IF Construc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2590920"/>
            <a:ext cx="43434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 n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r = num MOD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r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“Number is even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7668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770360" y="1981080"/>
          <a:ext cx="29750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0360" y="1981080"/>
                    <a:ext cx="29750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5203080" y="4952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59720" y="41911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The IF-ELSE Construct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0968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 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=num M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“Even Num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“Odd Num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668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124080" y="2549520"/>
            <a:ext cx="5943600" cy="4003560"/>
            <a:chOff x="3124080" y="2549520"/>
            <a:chExt cx="5943600" cy="4003560"/>
          </a:xfrm>
        </p:grpSpPr>
        <p:graphicFrame>
          <p:nvGraphicFramePr>
            <p:cNvPr id="326" name=""/>
            <p:cNvGraphicFramePr/>
            <p:nvPr/>
          </p:nvGraphicFramePr>
          <p:xfrm>
            <a:off x="3124080" y="2549520"/>
            <a:ext cx="5943600" cy="400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549520"/>
                      <a:ext cx="5943600" cy="40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>
              <a:off x="4822200" y="426708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36040" y="42670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Tahoma"/>
                <a:ea typeface="Times New Roman"/>
              </a:rPr>
              <a:t>Multiple criteria using AND/OR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24382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INPUT yearsWi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INPUT biz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IF yearsWithUs &gt;= 10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 bizDone &gt;=5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DISPLAY “Classified as an MV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LS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DISPLAY “A little more effort required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7668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416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Nested IFs-1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19810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INPUT yearsWi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INPUT biz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IF yearsWithUs &gt;=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IF bizDone &gt;=5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DISPLAY “Classified as an MV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DISPLAY “A little more effort required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LS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DISPLAY “A little more effort required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7668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416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Nested IFs-2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79856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3097080" y="6053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60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478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89840" y="2692440"/>
            <a:ext cx="2606760" cy="27648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PUT YearsWit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02000" y="1905120"/>
            <a:ext cx="981360" cy="380880"/>
          </a:xfrm>
          <a:prstGeom prst="flowChartAlternate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53360" y="3301920"/>
            <a:ext cx="2082960" cy="27648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PUT biz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87840" y="3809880"/>
            <a:ext cx="2208240" cy="609840"/>
          </a:xfrm>
          <a:prstGeom prst="flowChartDecision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earsWithUs &gt;=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47880" y="4876920"/>
            <a:ext cx="2208240" cy="609480"/>
          </a:xfrm>
          <a:prstGeom prst="flowChartDecision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zDone &gt; 5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85040" y="5605560"/>
            <a:ext cx="4844160" cy="27648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SPLAY “A Little more effort requir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02000" y="6324480"/>
            <a:ext cx="981360" cy="381240"/>
          </a:xfrm>
          <a:prstGeom prst="flowChartAlternate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35600" y="4114800"/>
            <a:ext cx="9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546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56120" y="518148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3392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951280" y="41148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5128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6160" y="3884760"/>
            <a:ext cx="4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58280" y="38847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24640" y="4875120"/>
            <a:ext cx="4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77080" y="5256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3160" y="4724280"/>
            <a:ext cx="98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5040" y="4624560"/>
            <a:ext cx="4844160" cy="27648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SPLAY “A Little more effort requir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24800" y="4724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283000" y="6400800"/>
            <a:ext cx="325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926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926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926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4280" y="6019920"/>
            <a:ext cx="3916440" cy="27648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SPLAY “Classified as an MV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4788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47880" y="6553080"/>
            <a:ext cx="245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00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Loops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259092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cnt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(cnt &lt; 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DISPLAY “Scoob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cnt=cn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Courier New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7668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89200" y="21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105520" y="2057400"/>
          <a:ext cx="33843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057400"/>
                    <a:ext cx="33843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6698520" y="402264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754400" y="3336840"/>
            <a:ext cx="5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oftware, Program and Command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219320" y="2057400"/>
            <a:ext cx="7543800" cy="4343040"/>
            <a:chOff x="1219320" y="2057400"/>
            <a:chExt cx="7543800" cy="4343040"/>
          </a:xfrm>
        </p:grpSpPr>
        <p:sp>
          <p:nvSpPr>
            <p:cNvPr id="101" name=""/>
            <p:cNvSpPr/>
            <p:nvPr/>
          </p:nvSpPr>
          <p:spPr>
            <a:xfrm>
              <a:off x="1219320" y="2057400"/>
              <a:ext cx="7543800" cy="4343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33880" y="2217960"/>
              <a:ext cx="1542960" cy="707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762280" y="4373640"/>
              <a:ext cx="51408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133520" y="4373640"/>
              <a:ext cx="68580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6363000" y="4373640"/>
              <a:ext cx="51408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962520" y="2925720"/>
              <a:ext cx="51408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5162040" y="2925720"/>
              <a:ext cx="5144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4120" y="3557880"/>
              <a:ext cx="1542960" cy="76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ogram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33640" y="3579120"/>
              <a:ext cx="1542600" cy="739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ogram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76480" y="5187600"/>
              <a:ext cx="1542960" cy="751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mm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05240" y="5187600"/>
              <a:ext cx="1542600" cy="772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mm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63000" y="5187600"/>
              <a:ext cx="1542600" cy="79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mm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38320" y="914400"/>
            <a:ext cx="800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Beginning of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19320" y="2743200"/>
            <a:ext cx="1143000" cy="837720"/>
            <a:chOff x="1219320" y="2743200"/>
            <a:chExt cx="1143000" cy="837720"/>
          </a:xfrm>
        </p:grpSpPr>
        <p:sp>
          <p:nvSpPr>
            <p:cNvPr id="115" name=""/>
            <p:cNvSpPr/>
            <p:nvPr/>
          </p:nvSpPr>
          <p:spPr>
            <a:xfrm>
              <a:off x="1219320" y="2743200"/>
              <a:ext cx="228600" cy="761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3276360"/>
              <a:ext cx="1143000" cy="304560"/>
            </a:xfrm>
            <a:prstGeom prst="rightArrow">
              <a:avLst>
                <a:gd name="adj1" fmla="val 50000"/>
                <a:gd name="adj2" fmla="val 9382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131840" y="3733920"/>
            <a:ext cx="1230480" cy="1008000"/>
            <a:chOff x="1131840" y="3733920"/>
            <a:chExt cx="1230480" cy="1008000"/>
          </a:xfrm>
        </p:grpSpPr>
        <p:sp>
          <p:nvSpPr>
            <p:cNvPr id="118" name=""/>
            <p:cNvSpPr/>
            <p:nvPr/>
          </p:nvSpPr>
          <p:spPr>
            <a:xfrm>
              <a:off x="1219320" y="3733920"/>
              <a:ext cx="11430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1840" y="3751560"/>
              <a:ext cx="380880" cy="990360"/>
            </a:xfrm>
            <a:prstGeom prst="downArrow">
              <a:avLst>
                <a:gd name="adj1" fmla="val 50000"/>
                <a:gd name="adj2" fmla="val 6500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4038480" y="5562720"/>
          <a:ext cx="457200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562720"/>
                    <a:ext cx="45720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57200" y="4800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– Dennis Ritc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3352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– Ken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057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PCL – Martin Rich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91640" y="914400"/>
            <a:ext cx="69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pplication Areas Of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9810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was initially used for systems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360" y="26128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program forms a portion of the opera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system of the computer or its support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755880"/>
            <a:ext cx="862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ng Systems, Interpreters, Editors, Assemb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programs are usually called system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9449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IX operating system was developed using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7373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are C compilers available for almost all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 P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22360" y="9288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Middle Level Langu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53680" y="205740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igh Leve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24960" y="5562720"/>
            <a:ext cx="47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ssembly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200400"/>
            <a:ext cx="1067040" cy="1557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Tahoma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7632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895480"/>
            <a:ext cx="8001000" cy="0"/>
          </a:xfrm>
          <a:prstGeom prst="line">
            <a:avLst/>
          </a:prstGeom>
          <a:ln w="7632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928800"/>
            <a:ext cx="758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tructured Langu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1337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1550f"/>
                </a:solidFill>
                <a:latin typeface="Tahoma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s compartmentalization of code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97324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e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refers to the ability to section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off and hide all information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instructions, necessary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perform a specific task, from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re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27364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de can be compartmentalized in</a:t>
            </a:r>
            <a:r>
              <a:rPr b="0" lang="en-US" sz="28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1550f"/>
                </a:solidFill>
                <a:latin typeface="Tahoma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s or code blocks</a:t>
            </a:r>
            <a:r>
              <a:rPr b="0" lang="en-US" sz="2800" spc="-1" strike="noStrike">
                <a:solidFill>
                  <a:srgbClr val="fffe00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32767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360600" y="85248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About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133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e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1550f"/>
                </a:solidFill>
                <a:latin typeface="Tahoma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as</a:t>
            </a:r>
            <a:r>
              <a:rPr b="1" lang="en-US" sz="24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32</a:t>
            </a:r>
            <a:r>
              <a:rPr b="1" lang="en-US" sz="24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743200"/>
            <a:ext cx="10668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e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keywords combined with a formal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 a</a:t>
            </a:r>
            <a:r>
              <a:rPr b="0" lang="en-US" sz="2400" spc="-1" strike="noStrike">
                <a:solidFill>
                  <a:srgbClr val="fffe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1550f"/>
                </a:solidFill>
                <a:latin typeface="Tahoma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ffe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3886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e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Tahoma"/>
                <a:ea typeface="Times New Roman"/>
              </a:rPr>
              <a:t>Rules to be followed for all programs written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040" y="441972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 keywords are lowerc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027760"/>
            <a:ext cx="46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550f"/>
                </a:solidFill>
                <a:latin typeface="Tahoma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99ff66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ase sensitive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do 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different from</a:t>
            </a:r>
            <a:r>
              <a:rPr b="0" lang="en-US" sz="2400" spc="-1" strike="noStrike">
                <a:solidFill>
                  <a:srgbClr val="99ff66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DO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807160"/>
            <a:ext cx="440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Keywords cannot be used as a variable or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ame</a:t>
            </a:r>
            <a:r>
              <a:rPr b="0" lang="en-US" sz="2400" spc="-1" strike="noStrike">
                <a:solidFill>
                  <a:srgbClr val="99ff66"/>
                </a:solidFill>
                <a:latin typeface="Tahoma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429080"/>
            <a:ext cx="3733560" cy="2040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is is a sample Program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=1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=2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90440" y="228600"/>
            <a:ext cx="744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C Program Structure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57200" y="2286000"/>
            <a:ext cx="8228880" cy="3962160"/>
            <a:chOff x="457200" y="2286000"/>
            <a:chExt cx="8228880" cy="3962160"/>
          </a:xfrm>
        </p:grpSpPr>
        <p:sp>
          <p:nvSpPr>
            <p:cNvPr id="152" name=""/>
            <p:cNvSpPr txBox="1"/>
            <p:nvPr/>
          </p:nvSpPr>
          <p:spPr>
            <a:xfrm>
              <a:off x="537120" y="2286000"/>
              <a:ext cx="1917360" cy="8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00e4a8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main()</a:t>
              </a:r>
              <a:endParaRPr b="0" lang="en-US" sz="2400" spc="1" strike="noStrike">
                <a:ln w="0">
                  <a:noFill/>
                </a:ln>
                <a:solidFill>
                  <a:srgbClr val="00e4a8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457200" y="3293640"/>
            <a:ext cx="50781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293640"/>
                      <a:ext cx="50781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5" name=""/>
            <p:cNvGrpSpPr/>
            <p:nvPr/>
          </p:nvGrpSpPr>
          <p:grpSpPr>
            <a:xfrm>
              <a:off x="457200" y="3991320"/>
              <a:ext cx="8228880" cy="813240"/>
              <a:chOff x="457200" y="3991320"/>
              <a:chExt cx="8228880" cy="813240"/>
            </a:xfrm>
          </p:grpSpPr>
          <p:graphicFrame>
            <p:nvGraphicFramePr>
              <p:cNvPr id="156" name=""/>
              <p:cNvGraphicFramePr/>
              <p:nvPr/>
            </p:nvGraphicFramePr>
            <p:xfrm>
              <a:off x="457200" y="3991320"/>
              <a:ext cx="8228880" cy="440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" y="3991320"/>
                        <a:ext cx="8228880" cy="440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8" name=""/>
              <p:cNvGraphicFramePr/>
              <p:nvPr/>
            </p:nvGraphicFramePr>
            <p:xfrm>
              <a:off x="457200" y="4431960"/>
              <a:ext cx="5512680" cy="372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200" y="4431960"/>
                        <a:ext cx="5512680" cy="37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0" name=""/>
            <p:cNvGrpSpPr/>
            <p:nvPr/>
          </p:nvGrpSpPr>
          <p:grpSpPr>
            <a:xfrm>
              <a:off x="457200" y="5076000"/>
              <a:ext cx="5752080" cy="416160"/>
              <a:chOff x="457200" y="5076000"/>
              <a:chExt cx="5752080" cy="416160"/>
            </a:xfrm>
          </p:grpSpPr>
          <p:graphicFrame>
            <p:nvGraphicFramePr>
              <p:cNvPr id="161" name=""/>
              <p:cNvGraphicFramePr/>
              <p:nvPr/>
            </p:nvGraphicFramePr>
            <p:xfrm>
              <a:off x="457200" y="5076000"/>
              <a:ext cx="4314240" cy="405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6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7200" y="5076000"/>
                        <a:ext cx="4314240" cy="40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3" name=""/>
              <p:cNvGraphicFramePr/>
              <p:nvPr/>
            </p:nvGraphicFramePr>
            <p:xfrm>
              <a:off x="4771440" y="5076000"/>
              <a:ext cx="1437840" cy="416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6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771440" y="5076000"/>
                        <a:ext cx="1437840" cy="41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65" name=""/>
            <p:cNvGraphicFramePr/>
            <p:nvPr/>
          </p:nvGraphicFramePr>
          <p:xfrm>
            <a:off x="457200" y="5773680"/>
            <a:ext cx="5752440" cy="474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" y="5773680"/>
                      <a:ext cx="5752440" cy="47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09:46:25Z</dcterms:created>
  <dc:creator>radha</dc:creator>
  <dc:description/>
  <dc:language>en-US</dc:language>
  <cp:lastModifiedBy>Debjani Deb</cp:lastModifiedBy>
  <dcterms:modified xsi:type="dcterms:W3CDTF">2009-07-27T04:52:30Z</dcterms:modified>
  <cp:revision>118</cp:revision>
  <dc:subject/>
  <dc:title>Basic Programming Concepts</dc:title>
</cp:coreProperties>
</file>