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3F969-237B-44D7-AD7B-CD5652FEC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16392-8B2F-483A-8546-22BAC421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4B04D-92CC-4947-BEAF-E3FBD06D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E12F7-10AB-4FF8-AB66-8F9B51F3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D8825-685B-4D77-91C1-AD718C4A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CE17C-BC93-4869-A84B-AF37920E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24FFC-2337-49AC-8DFA-6AD97EDF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5B247-F6B4-4829-8AA0-2EA99870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AFB37-7651-42D3-9000-9FC3CC55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38163-F790-444F-8D9C-29EFAB1F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226DB-ABF2-4F0A-80B8-4FECB5B5E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F6412-545F-473D-8D8B-DBCBA9AC9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Text Box 14"/>
          <p:cNvSpPr/>
          <p:nvPr/>
        </p:nvSpPr>
        <p:spPr>
          <a:xfrm>
            <a:off x="4800600" y="632448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1"/>
          </p:nvPr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mentary Programming with C/Session 1/ </a:t>
            </a:r>
            <a:fld id="{FC18CF2C-DBEE-4227-BE02-2FD2BFCD854C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2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B5F8-7A86-447A-8395-554886866944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tr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ssion 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1/ </a:t>
            </a:r>
            <a:fld id="{DAE2821F-9113-4DB0-BEB7-455308E6371E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0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1719720" y="928800"/>
            <a:ext cx="644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chr() function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568440" y="1987560"/>
            <a:ext cx="8253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termines the occurrence of a character in a string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Courier New"/>
              </a:rPr>
              <a:t>trchr(str, ch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unction returns a valu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8960" indent="-401760" algn="just"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inter to the first occurrence of the character (pointed by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 in the string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8960" indent="-401760" algn="just"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LL if it is not present Mean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1/ </a:t>
            </a:r>
            <a:fld id="{7E34B928-EBA6-4BE7-B287-559E221ABB76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0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16524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cpy() function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568440" y="2057400"/>
            <a:ext cx="8253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pies the value in one string on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Courier New"/>
              </a:rPr>
              <a:t>trcpy(str1, str2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value of str2 is copied onto str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1/ </a:t>
            </a:r>
            <a:fld id="{ED31054A-742B-4CD9-887F-CE980B216313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0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1382400" y="928800"/>
            <a:ext cx="640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len() function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568440" y="2057400"/>
            <a:ext cx="8253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termines the length of a st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Courier New"/>
              </a:rPr>
              <a:t>trlen(str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unction returns an integer value for the length of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1/ </a:t>
            </a:r>
            <a:fld id="{8415909E-AFFC-47DF-9AB9-3D37F3113ADB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0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568440" y="2057400"/>
            <a:ext cx="8253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en an array is passed as an argument to a function, only the address of the array is pa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rray name without the subscripts refers to the address of the 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152000" y="4111920"/>
            <a:ext cx="229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void 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 ary[10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n_ary(ary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079640" y="22860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Passing Arrays to Functions-1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1/ </a:t>
            </a:r>
            <a:fld id="{A7B29F32-F920-4C6E-83BA-93A76E2345AC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0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1079640" y="22860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Passing Arrays to Functions-2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68440" y="2057400"/>
            <a:ext cx="8253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#include&lt;stdio.h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void  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int num[5], ctr, sum=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int sum_arr(int num_arr[]); /* Function declaration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clrsc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for(ctr=0;ctr&lt;5;ctr++) /* Accepts numbers into the array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printf("\nEnter number %d: ", ctr+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scanf("%d", &amp;num[ctr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1/ </a:t>
            </a:r>
            <a:fld id="{7F162307-E674-48CC-BD6B-FEF7862054A4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0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568440" y="2057400"/>
            <a:ext cx="825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sum=sum_arr(num); /* Invokes the function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printf("\nThe sum of the array is %d", sum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getch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int sum_arr(int num_arr[]) /* Function definition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int i, tota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for(i=0,total=0;i&lt;5;i++) /* Calculates the sum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total+=num_arr[i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return total; /* Returns the sum to main()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079640" y="22860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Passing Arrays to Functions-3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1/ </a:t>
            </a:r>
            <a:fld id="{915BC90C-6C1B-4E96-9149-D869BFD29D0F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0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568440" y="2057400"/>
            <a:ext cx="825336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Mincho"/>
              </a:rPr>
              <a:t>Sample output of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MS Mincho"/>
              </a:rPr>
              <a:t>Enter number 1: 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MS Mincho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MS Mincho"/>
              </a:rPr>
              <a:t>Enter number 2: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MS Mincho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MS Mincho"/>
              </a:rPr>
              <a:t>Enter number 3: 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MS Mincho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MS Mincho"/>
              </a:rPr>
              <a:t>Enter number 4: 2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MS Mincho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MS Mincho"/>
              </a:rPr>
              <a:t>Enter number 5: 2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MS Mincho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MS Mincho"/>
              </a:rPr>
              <a:t>The sum of the array is 7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079640" y="22860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Passing Arrays to Functions-4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1/ </a:t>
            </a:r>
            <a:fld id="{2353CF87-6003-471D-A070-02952D2B4D6D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0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1148760" y="355680"/>
            <a:ext cx="7809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of Passing Strings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to Functions-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568440" y="2057400"/>
            <a:ext cx="8253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#include&lt;stdio.h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#include&lt;string.h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void  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char lines[5][20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int ctr, longctr=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int longest(char lines_arr[][20]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/* Function declaration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clrsc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for(ctr=0;ctr&lt;5;ctr++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/* Accepts string values into the array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printf("\nEnter string %d: ", ctr+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scanf("%s", lines[ctr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1/ </a:t>
            </a:r>
            <a:fld id="{CEF34F0C-B66C-44BF-9CF7-5C5E1CE685A9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0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1148760" y="355680"/>
            <a:ext cx="7809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of Passing Strings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to Functions-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68440" y="2057400"/>
            <a:ext cx="8253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longctr=longest(line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/* Passes the array to the function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printf("\nThe longest string is %s", lines[longctr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getch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int longest(char lines_arr[][20]) /* Function definition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int i=0, l_ctr=0, prev_len, new_len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prev_len=strlen(lines_arr[i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/* Determines the length of the first element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1/ </a:t>
            </a:r>
            <a:fld id="{249F3758-FBB0-4875-81B7-512812751384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0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1148760" y="355680"/>
            <a:ext cx="7809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of Passing Strings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to Functions-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568440" y="2057400"/>
            <a:ext cx="8253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for(i++;i&lt;5;i++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new_len=strlen(lines_arr[i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/* Determines the length of the next element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if(new_len&gt;prev_le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l_ctr=i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/* Stores the subscript of the longer string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prev_len=new_len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return l_ctr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/* Returns the subscript of the longest string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MS Minch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1/ </a:t>
            </a:r>
            <a:fld id="{790A9483-8B13-42BC-8AEC-417688369FD5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0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2780280" y="928800"/>
            <a:ext cx="337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ive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533520" y="2209680"/>
            <a:ext cx="8076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lain string variables and consta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lain pointers to string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tring input/output oper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lain the various string func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lain how arrays can be passed as arguments to func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strings can be used as function argu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1/ </a:t>
            </a:r>
            <a:fld id="{7CEC5D25-D675-49CE-A50D-A54B069CA0CD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0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568440" y="2057400"/>
            <a:ext cx="825336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Mincho"/>
              </a:rPr>
              <a:t>Sample output of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MS Mincho"/>
              </a:rPr>
              <a:t>Enter string 1: T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MS Mincho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MS Mincho"/>
              </a:rPr>
              <a:t>Enter string 2: Sig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MS Mincho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MS Mincho"/>
              </a:rPr>
              <a:t>Enter string 3: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MS Mincho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MS Mincho"/>
              </a:rPr>
              <a:t>Enter string 4: Robe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MS Mincho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MS Mincho"/>
              </a:rPr>
              <a:t>Enter string 5: Ludl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MS Mincho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MS Mincho"/>
              </a:rPr>
              <a:t>The longest string is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148760" y="355680"/>
            <a:ext cx="7809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of Passing Strings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to Functions-4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1/ </a:t>
            </a:r>
            <a:fld id="{82E741F0-AA95-4365-9F78-79E06D43FDCD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0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1955880" y="928800"/>
            <a:ext cx="513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ng variables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568440" y="1959120"/>
            <a:ext cx="8253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Strings are arrays of characters terminated by the NULL (‘\0’) charac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String variables can be assigned string constants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A string constant is a sequence of characters surrounded by double quo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‘\0’ null character is automatically added in the internal representation of a string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declaring a string variable, allow one extra element space for the null terminator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1/ </a:t>
            </a:r>
            <a:fld id="{17C2A6F5-A703-4101-860B-75B02810122A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0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1113840" y="928800"/>
            <a:ext cx="80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Declaring string variable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568440" y="2577960"/>
            <a:ext cx="82533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ypical string variable declaration is: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Courier New"/>
              </a:rPr>
              <a:t>char str[10]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s a character array variable that can hold a maximum of 10 characters including the null terminator. 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1/ </a:t>
            </a:r>
            <a:fld id="{BA7DFBDC-8FCF-432A-AE2B-5867543F7CCC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0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1308240" y="928800"/>
            <a:ext cx="80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ng I/O operations-1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568440" y="2057400"/>
            <a:ext cx="825336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ring I/O operations are carried out using functions from the standard I/O library call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dio.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ets() function is the simplest method of accepting a string through standard inpu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 characters are accepted till the Enter key is pre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ets() function replaces the terminating ‘\n’ new line character with the ‘\0’ charac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tax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Courier New"/>
              </a:rPr>
              <a:t>gets(str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1/ </a:t>
            </a:r>
            <a:fld id="{98BC7518-DDD3-44D8-8D43-FDD6377D2C1B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0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1229400" y="762120"/>
            <a:ext cx="732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ng I/O operations-2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568440" y="2057400"/>
            <a:ext cx="825336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uts() function is used to display a string on the standard output device.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yntax 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Courier New"/>
              </a:rPr>
              <a:t>puts(str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canf() and printf() functions are used to accept and display mixed data types with a single statemen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yntax to accept a string is as follow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Courier New"/>
              </a:rPr>
              <a:t>scanf(“%s”, str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yntax to display a string is as follow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Courier New"/>
              </a:rPr>
              <a:t>printf(“%s”, str)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1/ </a:t>
            </a:r>
            <a:fld id="{2841A4DC-AFEF-41F0-A349-F832A7257900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0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2109960" y="928800"/>
            <a:ext cx="533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ng Functions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568440" y="2057400"/>
            <a:ext cx="8253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s for handling strings are found in the standard header fil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ng.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. Few of the operations performed by these functions a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just">
              <a:buClr>
                <a:srgbClr val="ff0000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just">
              <a:buClr>
                <a:srgbClr val="ff0000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aring str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just">
              <a:buClr>
                <a:srgbClr val="ff0000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ocating a character in a st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just">
              <a:buClr>
                <a:srgbClr val="ff0000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pying one string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just">
              <a:buClr>
                <a:srgbClr val="ff0000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lculating the length of a st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1/ </a:t>
            </a:r>
            <a:fld id="{15885A5F-2224-4C71-A049-CB379CD89395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0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1574640" y="928800"/>
            <a:ext cx="671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cat() function 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568440" y="2174760"/>
            <a:ext cx="8253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oins two string values into on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Courier New"/>
              </a:rPr>
              <a:t>trcat(str1, str2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he str2 at the end of str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1"/>
          <p:cNvSpPr/>
          <p:nvPr/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ary Programming with C/Session 1/ </a:t>
            </a:r>
            <a:fld id="{E223C039-EEAE-4778-A5B8-B4B38C8AD6B4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20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1487880" y="928800"/>
            <a:ext cx="675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cmp() function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568440" y="2057400"/>
            <a:ext cx="8253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ares two strings and returns an integer value based on the results of the comparis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Courier New"/>
              </a:rPr>
              <a:t>trcmp(str1, str2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3920" indent="-223920" algn="just"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unction returns a valu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ss than zero if str1&lt;str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Zero if str1 is same as str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just"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eater than zero if str1&gt;str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8T07:28:21Z</dcterms:created>
  <dc:creator>Amit Shindore</dc:creator>
  <dc:description/>
  <dc:language>en-US</dc:language>
  <cp:lastModifiedBy>Admin</cp:lastModifiedBy>
  <dcterms:modified xsi:type="dcterms:W3CDTF">2017-05-22T03:43:35Z</dcterms:modified>
  <cp:revision>412</cp:revision>
  <dc:subject/>
  <dc:title>PowerPoint Presentation</dc:title>
</cp:coreProperties>
</file>