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FE480-6655-4FED-8253-79D138A6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8976E-C273-4527-8F12-C04E5B3F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49585-E083-4306-9E9D-4F4FC6A3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72FE1-1DB5-449A-8C6F-10C9EA9B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8405F-AB20-4707-B8D7-6C821EF2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B53D4-122F-403A-AB34-DB8B073A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524B7-9D30-4111-BCF8-32CE46B7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C3652-9B6B-440E-93C6-B1663DE3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2392A-262F-4BF5-A485-42633C1F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BC8A6-0FD9-4CE3-AC83-C575F34F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B465B-7F25-4EA3-B7C1-0B1B7837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25059-0863-4194-9480-C21AB180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2/ </a:t>
            </a:r>
            <a:fld id="{7C58B015-23F5-4913-BB9C-E071D34098C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7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8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1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1089-8337-425F-96E6-D598FFC1C1F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Variables and Data Type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ssio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2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2/ </a:t>
            </a:r>
            <a:fld id="{5C1F2C2A-AA9A-4EFC-A95A-0C88D720352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2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Data Types-2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562040" y="3886200"/>
            <a:ext cx="6019920" cy="533520"/>
          </a:xfrm>
          <a:prstGeom prst="rect">
            <a:avLst/>
          </a:prstGeom>
          <a:solidFill>
            <a:srgbClr val="ebe0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atype variable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988920" y="2133720"/>
            <a:ext cx="716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data type describes the kind of data that will fit into a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735120" y="2633760"/>
            <a:ext cx="747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ame of the variable is preceded with the data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3480" y="3181320"/>
            <a:ext cx="886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xample, the data type int  would precede  the name var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1600200" y="4800600"/>
            <a:ext cx="6095880" cy="609480"/>
          </a:xfrm>
          <a:prstGeom prst="roundRect">
            <a:avLst>
              <a:gd name="adj" fmla="val 16667"/>
            </a:avLst>
          </a:prstGeom>
          <a:solidFill>
            <a:srgbClr val="ebe0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var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2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2/ </a:t>
            </a:r>
            <a:fld id="{E7AF4E47-C12E-45FC-9EBC-9504188B36F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2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6477120" y="5334120"/>
            <a:ext cx="1752480" cy="838080"/>
          </a:xfrm>
          <a:prstGeom prst="rect">
            <a:avLst/>
          </a:prstGeom>
          <a:solidFill>
            <a:srgbClr val="add3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5029200" y="5257800"/>
            <a:ext cx="1752480" cy="838080"/>
          </a:xfrm>
          <a:prstGeom prst="rect">
            <a:avLst/>
          </a:prstGeom>
          <a:solidFill>
            <a:srgbClr val="d7d2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3695760" y="5334120"/>
            <a:ext cx="175248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Basic Data Types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1981080" y="1905120"/>
            <a:ext cx="53341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 basic data types 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362320" y="5181480"/>
            <a:ext cx="1752480" cy="838440"/>
          </a:xfrm>
          <a:prstGeom prst="rect">
            <a:avLst/>
          </a:prstGeom>
          <a:solidFill>
            <a:srgbClr val="a5c1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838080" y="5029200"/>
            <a:ext cx="1752840" cy="838080"/>
          </a:xfrm>
          <a:prstGeom prst="rect">
            <a:avLst/>
          </a:prstGeom>
          <a:solidFill>
            <a:srgbClr val="e49c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8"/>
          <p:cNvSpPr/>
          <p:nvPr/>
        </p:nvSpPr>
        <p:spPr>
          <a:xfrm flipH="1">
            <a:off x="3208320" y="2743200"/>
            <a:ext cx="136368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5"/>
          <p:cNvSpPr/>
          <p:nvPr/>
        </p:nvSpPr>
        <p:spPr>
          <a:xfrm flipH="1">
            <a:off x="1980720" y="2743200"/>
            <a:ext cx="2590920" cy="236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4572000" y="2743200"/>
            <a:ext cx="274320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9"/>
          <p:cNvSpPr/>
          <p:nvPr/>
        </p:nvSpPr>
        <p:spPr>
          <a:xfrm>
            <a:off x="4572000" y="2743200"/>
            <a:ext cx="140796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4572000" y="274320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2/ </a:t>
            </a:r>
            <a:fld id="{4383E293-1A27-47B6-9E39-05C894619A1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2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imes New Roman"/>
              </a:rPr>
              <a:t>Type int</a:t>
            </a: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s numeric dat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int nu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16 bits (2 byt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ers in the range -32768 to 3276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s: 12322, 0, -23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2/ </a:t>
            </a:r>
            <a:fld id="{0A2066F1-3C39-425A-AA22-9BF979B866A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2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Type flo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s values containing decimal 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loat nu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ion of upto 6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32 bits (4 bytes) of memo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s: 23.05, 56.5, 32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2/ </a:t>
            </a:r>
            <a:fld id="{538D08A5-FDE7-4DE1-BF88-37F9D3116FA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2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Type </a:t>
            </a: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imes New Roman"/>
              </a:rPr>
              <a:t>double</a:t>
            </a: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s values containing decimal pla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double nu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ion of upto 10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64 bits (8 bytes) of memo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s: 56.67876534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2/ </a:t>
            </a:r>
            <a:fld id="{127AF707-F4D3-4126-B9B2-77956371F43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2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Type </a:t>
            </a: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imes New Roman"/>
              </a:rPr>
              <a:t>char</a:t>
            </a: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s a single character of informat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 gend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gender='M'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8 bits (1 byte) of memo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s: ‘a’, ‘m’, ‘$’ ‘%’ , ‘1’, ’5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2/ </a:t>
            </a:r>
            <a:fld id="{07E04686-8C7B-4BC3-9C75-BF353B15783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2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Type </a:t>
            </a: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imes New Roman"/>
              </a:rPr>
              <a:t>void</a:t>
            </a: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s nothing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dicates the compiler that there is nothing to exp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2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2/ </a:t>
            </a:r>
            <a:fld id="{7E418A75-7A22-4A25-A3FA-B170E5A1DEF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2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Derived Data Types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7" name="Group 45"/>
          <p:cNvGrpSpPr/>
          <p:nvPr/>
        </p:nvGrpSpPr>
        <p:grpSpPr>
          <a:xfrm>
            <a:off x="813960" y="4108320"/>
            <a:ext cx="7750440" cy="1191240"/>
            <a:chOff x="813960" y="4108320"/>
            <a:chExt cx="7750440" cy="1191240"/>
          </a:xfrm>
        </p:grpSpPr>
        <p:grpSp>
          <p:nvGrpSpPr>
            <p:cNvPr id="188" name="Group 15"/>
            <p:cNvGrpSpPr/>
            <p:nvPr/>
          </p:nvGrpSpPr>
          <p:grpSpPr>
            <a:xfrm>
              <a:off x="2438280" y="4267080"/>
              <a:ext cx="304920" cy="304920"/>
              <a:chOff x="2438280" y="4267080"/>
              <a:chExt cx="304920" cy="304920"/>
            </a:xfrm>
          </p:grpSpPr>
          <p:sp>
            <p:nvSpPr>
              <p:cNvPr id="189" name="Line 16"/>
              <p:cNvSpPr/>
              <p:nvPr/>
            </p:nvSpPr>
            <p:spPr>
              <a:xfrm>
                <a:off x="2590560" y="426708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0" name="Line 17"/>
              <p:cNvSpPr/>
              <p:nvPr/>
            </p:nvSpPr>
            <p:spPr>
              <a:xfrm>
                <a:off x="2438280" y="441972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1" name="Group 24"/>
            <p:cNvGrpSpPr/>
            <p:nvPr/>
          </p:nvGrpSpPr>
          <p:grpSpPr>
            <a:xfrm>
              <a:off x="5333760" y="4343400"/>
              <a:ext cx="609840" cy="152280"/>
              <a:chOff x="5333760" y="4343400"/>
              <a:chExt cx="609840" cy="152280"/>
            </a:xfrm>
          </p:grpSpPr>
          <p:sp>
            <p:nvSpPr>
              <p:cNvPr id="192" name="Line 25"/>
              <p:cNvSpPr/>
              <p:nvPr/>
            </p:nvSpPr>
            <p:spPr>
              <a:xfrm>
                <a:off x="5333760" y="434340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" name="Line 26"/>
              <p:cNvSpPr/>
              <p:nvPr/>
            </p:nvSpPr>
            <p:spPr>
              <a:xfrm>
                <a:off x="5333760" y="449568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4" name="Text Box 33"/>
            <p:cNvSpPr/>
            <p:nvPr/>
          </p:nvSpPr>
          <p:spPr>
            <a:xfrm>
              <a:off x="3352680" y="41911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Text Box 34"/>
            <p:cNvSpPr/>
            <p:nvPr/>
          </p:nvSpPr>
          <p:spPr>
            <a:xfrm>
              <a:off x="813960" y="415764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shor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Text Box 35"/>
            <p:cNvSpPr/>
            <p:nvPr/>
          </p:nvSpPr>
          <p:spPr>
            <a:xfrm>
              <a:off x="6676920" y="4108320"/>
              <a:ext cx="1887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hort int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Occupies les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pace than int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" name="Group 7"/>
          <p:cNvGrpSpPr/>
          <p:nvPr/>
        </p:nvGrpSpPr>
        <p:grpSpPr>
          <a:xfrm>
            <a:off x="2514600" y="2209680"/>
            <a:ext cx="304920" cy="304920"/>
            <a:chOff x="2514600" y="2209680"/>
            <a:chExt cx="304920" cy="304920"/>
          </a:xfrm>
        </p:grpSpPr>
        <p:sp>
          <p:nvSpPr>
            <p:cNvPr id="198" name="Line 4"/>
            <p:cNvSpPr/>
            <p:nvPr/>
          </p:nvSpPr>
          <p:spPr>
            <a:xfrm>
              <a:off x="2666880" y="22096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Line 5"/>
            <p:cNvSpPr/>
            <p:nvPr/>
          </p:nvSpPr>
          <p:spPr>
            <a:xfrm>
              <a:off x="2514600" y="2362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0" name="Group 10"/>
          <p:cNvGrpSpPr/>
          <p:nvPr/>
        </p:nvGrpSpPr>
        <p:grpSpPr>
          <a:xfrm>
            <a:off x="5410080" y="2286000"/>
            <a:ext cx="609840" cy="152280"/>
            <a:chOff x="5410080" y="2286000"/>
            <a:chExt cx="609840" cy="152280"/>
          </a:xfrm>
        </p:grpSpPr>
        <p:sp>
          <p:nvSpPr>
            <p:cNvPr id="201" name="Line 8"/>
            <p:cNvSpPr/>
            <p:nvPr/>
          </p:nvSpPr>
          <p:spPr>
            <a:xfrm>
              <a:off x="5410080" y="22860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Line 9"/>
            <p:cNvSpPr/>
            <p:nvPr/>
          </p:nvSpPr>
          <p:spPr>
            <a:xfrm>
              <a:off x="5410080" y="243828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" name="AutoShape 11"/>
          <p:cNvSpPr/>
          <p:nvPr/>
        </p:nvSpPr>
        <p:spPr>
          <a:xfrm>
            <a:off x="6477120" y="2038320"/>
            <a:ext cx="2361960" cy="609480"/>
          </a:xfrm>
          <a:prstGeom prst="flowChartTermina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rived data 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39"/>
          <p:cNvSpPr/>
          <p:nvPr/>
        </p:nvSpPr>
        <p:spPr>
          <a:xfrm>
            <a:off x="3048120" y="20574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d7d2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sic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yp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40"/>
          <p:cNvSpPr/>
          <p:nvPr/>
        </p:nvSpPr>
        <p:spPr>
          <a:xfrm>
            <a:off x="380880" y="2057400"/>
            <a:ext cx="1828800" cy="609480"/>
          </a:xfrm>
          <a:prstGeom prst="rect">
            <a:avLst/>
          </a:prstGeom>
          <a:solidFill>
            <a:srgbClr val="add3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typ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odifi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44"/>
          <p:cNvGrpSpPr/>
          <p:nvPr/>
        </p:nvGrpSpPr>
        <p:grpSpPr>
          <a:xfrm>
            <a:off x="560520" y="2971800"/>
            <a:ext cx="8278560" cy="916920"/>
            <a:chOff x="560520" y="2971800"/>
            <a:chExt cx="8278560" cy="916920"/>
          </a:xfrm>
        </p:grpSpPr>
        <p:grpSp>
          <p:nvGrpSpPr>
            <p:cNvPr id="207" name="Group 12"/>
            <p:cNvGrpSpPr/>
            <p:nvPr/>
          </p:nvGrpSpPr>
          <p:grpSpPr>
            <a:xfrm>
              <a:off x="2514600" y="3200400"/>
              <a:ext cx="304920" cy="304920"/>
              <a:chOff x="2514600" y="3200400"/>
              <a:chExt cx="304920" cy="304920"/>
            </a:xfrm>
          </p:grpSpPr>
          <p:sp>
            <p:nvSpPr>
              <p:cNvPr id="208" name="Line 13"/>
              <p:cNvSpPr/>
              <p:nvPr/>
            </p:nvSpPr>
            <p:spPr>
              <a:xfrm>
                <a:off x="2666880" y="32004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Line 14"/>
              <p:cNvSpPr/>
              <p:nvPr/>
            </p:nvSpPr>
            <p:spPr>
              <a:xfrm>
                <a:off x="2514600" y="335304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0" name="Group 21"/>
            <p:cNvGrpSpPr/>
            <p:nvPr/>
          </p:nvGrpSpPr>
          <p:grpSpPr>
            <a:xfrm>
              <a:off x="5391000" y="3276720"/>
              <a:ext cx="609840" cy="152280"/>
              <a:chOff x="5391000" y="3276720"/>
              <a:chExt cx="609840" cy="152280"/>
            </a:xfrm>
          </p:grpSpPr>
          <p:sp>
            <p:nvSpPr>
              <p:cNvPr id="211" name="Line 22"/>
              <p:cNvSpPr/>
              <p:nvPr/>
            </p:nvSpPr>
            <p:spPr>
              <a:xfrm>
                <a:off x="5391000" y="327672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Line 23"/>
              <p:cNvSpPr/>
              <p:nvPr/>
            </p:nvSpPr>
            <p:spPr>
              <a:xfrm>
                <a:off x="5391000" y="342900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3" name="Text Box 30"/>
            <p:cNvSpPr/>
            <p:nvPr/>
          </p:nvSpPr>
          <p:spPr>
            <a:xfrm>
              <a:off x="3466440" y="3090960"/>
              <a:ext cx="6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int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Text Box 32"/>
            <p:cNvSpPr/>
            <p:nvPr/>
          </p:nvSpPr>
          <p:spPr>
            <a:xfrm>
              <a:off x="6400800" y="297180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unsigned int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Permits only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ositive numbers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Text Box 41"/>
            <p:cNvSpPr/>
            <p:nvPr/>
          </p:nvSpPr>
          <p:spPr>
            <a:xfrm>
              <a:off x="560520" y="309096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unsigne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" name="Group 46"/>
          <p:cNvGrpSpPr/>
          <p:nvPr/>
        </p:nvGrpSpPr>
        <p:grpSpPr>
          <a:xfrm>
            <a:off x="1019160" y="5456160"/>
            <a:ext cx="7847280" cy="1067400"/>
            <a:chOff x="1019160" y="5456160"/>
            <a:chExt cx="7847280" cy="1067400"/>
          </a:xfrm>
        </p:grpSpPr>
        <p:grpSp>
          <p:nvGrpSpPr>
            <p:cNvPr id="217" name="Group 18"/>
            <p:cNvGrpSpPr/>
            <p:nvPr/>
          </p:nvGrpSpPr>
          <p:grpSpPr>
            <a:xfrm>
              <a:off x="2514600" y="5667480"/>
              <a:ext cx="304920" cy="304560"/>
              <a:chOff x="2514600" y="5667480"/>
              <a:chExt cx="304920" cy="304560"/>
            </a:xfrm>
          </p:grpSpPr>
          <p:sp>
            <p:nvSpPr>
              <p:cNvPr id="218" name="Line 19"/>
              <p:cNvSpPr/>
              <p:nvPr/>
            </p:nvSpPr>
            <p:spPr>
              <a:xfrm>
                <a:off x="2666880" y="566748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Line 20"/>
              <p:cNvSpPr/>
              <p:nvPr/>
            </p:nvSpPr>
            <p:spPr>
              <a:xfrm>
                <a:off x="2514600" y="58197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0" name="Group 27"/>
            <p:cNvGrpSpPr/>
            <p:nvPr/>
          </p:nvGrpSpPr>
          <p:grpSpPr>
            <a:xfrm>
              <a:off x="5410080" y="5743440"/>
              <a:ext cx="609840" cy="152280"/>
              <a:chOff x="5410080" y="5743440"/>
              <a:chExt cx="609840" cy="152280"/>
            </a:xfrm>
          </p:grpSpPr>
          <p:sp>
            <p:nvSpPr>
              <p:cNvPr id="221" name="Line 28"/>
              <p:cNvSpPr/>
              <p:nvPr/>
            </p:nvSpPr>
            <p:spPr>
              <a:xfrm>
                <a:off x="5410080" y="574344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Line 29"/>
              <p:cNvSpPr/>
              <p:nvPr/>
            </p:nvSpPr>
            <p:spPr>
              <a:xfrm>
                <a:off x="5410080" y="589572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3" name="Text Box 36"/>
            <p:cNvSpPr/>
            <p:nvPr/>
          </p:nvSpPr>
          <p:spPr>
            <a:xfrm>
              <a:off x="3009960" y="5557680"/>
              <a:ext cx="178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int/doubl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Text Box 38"/>
            <p:cNvSpPr/>
            <p:nvPr/>
          </p:nvSpPr>
          <p:spPr>
            <a:xfrm>
              <a:off x="6567480" y="5456160"/>
              <a:ext cx="22989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ong int /longdoubl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(Occupies mor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pace th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t/double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Text Box 42"/>
            <p:cNvSpPr/>
            <p:nvPr/>
          </p:nvSpPr>
          <p:spPr>
            <a:xfrm>
              <a:off x="1019160" y="5557680"/>
              <a:ext cx="8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long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2/ </a:t>
            </a:r>
            <a:fld id="{9899E1C0-5E90-4345-8BC3-81A7B36DC81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2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imes New Roman"/>
              </a:rPr>
              <a:t>signed and unsigned Types</a:t>
            </a: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signe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pecifies that a variable can take only positive val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unsigned int varN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varNum=2312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arNum is allocated 2 by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r may be used with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 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signed int supports range from 0 to 6553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2/ </a:t>
            </a:r>
            <a:fld id="{7A380010-2786-4C63-A070-97AB3D448AE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2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imes New Roman"/>
              </a:rPr>
              <a:t>long and short Types</a:t>
            </a: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r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ccupies 8 bits (1 byte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s numbers in the range -128 to 12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ong in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ccupies 32 bits (4 by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2,147,483,648 and 2,147,483,64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ong dou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ccupies 128 bits (16 by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2/ </a:t>
            </a:r>
            <a:fld id="{1F81DE2D-4BED-45BA-8426-CD967555FAB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2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26665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 vari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 between variables and consta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st the different data types and make use of them in C program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 arithmetic operat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4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2/ </a:t>
            </a:r>
            <a:fld id="{C48C19D8-26F5-4D7B-809A-742D056B669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2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imes New Roman"/>
              </a:rPr>
              <a:t>Data Types and their range</a:t>
            </a: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-1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09480" y="2021040"/>
          <a:ext cx="8229600" cy="4136760"/>
        </p:xfrm>
        <a:graphic>
          <a:graphicData uri="http://schemas.openxmlformats.org/drawingml/2006/table">
            <a:tbl>
              <a:tblPr/>
              <a:tblGrid>
                <a:gridCol w="2667240"/>
                <a:gridCol w="2438280"/>
                <a:gridCol w="31240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roximate Size in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al 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8 to 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sig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to 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ed 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8 to 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,768 to 32,7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signed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to 65,5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ed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e as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e as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signed short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to 65, 5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2/ </a:t>
            </a:r>
            <a:fld id="{82334D0C-E0A0-4A42-AAB1-D2A9C8D4462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2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imes New Roman"/>
              </a:rPr>
              <a:t>Data Types and their range</a:t>
            </a: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-2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17600" y="2165400"/>
          <a:ext cx="8574120" cy="438948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  <a:gridCol w="43070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roximate Size in 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al 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ed short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e as short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ed short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e as short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147,483,647 to 2,147,483,6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ed long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to 4,294,967,2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signed long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to 4,294,967,2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o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x digits of prec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 digits of prec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 digits of prec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2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2/ </a:t>
            </a:r>
            <a:fld id="{66ABE3E8-6198-41C9-A277-DEC2ED46CEAB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2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Sample Declaration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228600" y="2362320"/>
            <a:ext cx="8686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main (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char abc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  /*abc of type character 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int xyz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  /*xyz of type integer 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float length;  /*length of type float 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double area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  /*area of type double 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long liteyrs;  /*liteyrs of type long int 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short arm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  /*arm of type short integer*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Courier New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2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2/ </a:t>
            </a:r>
            <a:fld id="{FF26F6B4-0E4A-4507-AE3E-1B04C0CF45F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2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Variables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2438280" y="2133720"/>
            <a:ext cx="3048120" cy="838080"/>
          </a:xfrm>
          <a:custGeom>
            <a:avLst/>
            <a:gdLst>
              <a:gd name="textAreaLeft" fmla="*/ 533160 w 3048120"/>
              <a:gd name="textAreaRight" fmla="*/ 2210040 w 304812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4050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553800" y="26668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3352680" y="48769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ach location in the memory is uniq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380880" y="5486400"/>
            <a:ext cx="8382240" cy="609480"/>
          </a:xfrm>
          <a:prstGeom prst="rect">
            <a:avLst/>
          </a:prstGeom>
          <a:solidFill>
            <a:srgbClr val="dac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ariables  allow  to provide a meaningful name for the location in memo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657600" y="3124080"/>
          <a:ext cx="3962520" cy="164484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  <a:gridCol w="990720"/>
              </a:tblGrid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Rectangle 51"/>
          <p:cNvSpPr/>
          <p:nvPr/>
        </p:nvSpPr>
        <p:spPr>
          <a:xfrm>
            <a:off x="1828800" y="35812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Group 53"/>
          <p:cNvGrpSpPr/>
          <p:nvPr/>
        </p:nvGrpSpPr>
        <p:grpSpPr>
          <a:xfrm>
            <a:off x="4493880" y="3809880"/>
            <a:ext cx="1335960" cy="708480"/>
            <a:chOff x="4493880" y="3809880"/>
            <a:chExt cx="1335960" cy="708480"/>
          </a:xfrm>
        </p:grpSpPr>
        <p:sp>
          <p:nvSpPr>
            <p:cNvPr id="112" name="Text Box 15"/>
            <p:cNvSpPr/>
            <p:nvPr/>
          </p:nvSpPr>
          <p:spPr>
            <a:xfrm>
              <a:off x="4493880" y="424188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ahoma"/>
                </a:rPr>
                <a:t>Data in memor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52"/>
            <p:cNvSpPr/>
            <p:nvPr/>
          </p:nvSpPr>
          <p:spPr>
            <a:xfrm>
              <a:off x="4724280" y="3809880"/>
              <a:ext cx="685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2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2/ </a:t>
            </a:r>
            <a:fld id="{8F04D0FB-8177-4707-8090-FD521DE8C20B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2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04920" y="441972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, B and C are   variables in the pseudoc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Group 17"/>
          <p:cNvGrpSpPr/>
          <p:nvPr/>
        </p:nvGrpSpPr>
        <p:grpSpPr>
          <a:xfrm>
            <a:off x="1905120" y="1981080"/>
            <a:ext cx="5333760" cy="2286000"/>
            <a:chOff x="1905120" y="1981080"/>
            <a:chExt cx="5333760" cy="2286000"/>
          </a:xfrm>
        </p:grpSpPr>
        <p:sp>
          <p:nvSpPr>
            <p:cNvPr id="118" name="Rectangle 5"/>
            <p:cNvSpPr/>
            <p:nvPr/>
          </p:nvSpPr>
          <p:spPr>
            <a:xfrm>
              <a:off x="1905120" y="1981080"/>
              <a:ext cx="5333760" cy="2286000"/>
            </a:xfrm>
            <a:prstGeom prst="rect">
              <a:avLst/>
            </a:prstGeom>
            <a:solidFill>
              <a:srgbClr val="dac5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Text Box 8"/>
            <p:cNvSpPr/>
            <p:nvPr/>
          </p:nvSpPr>
          <p:spPr>
            <a:xfrm>
              <a:off x="2298960" y="20098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EGI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Text Box 9"/>
            <p:cNvSpPr/>
            <p:nvPr/>
          </p:nvSpPr>
          <p:spPr>
            <a:xfrm>
              <a:off x="2343240" y="2309760"/>
              <a:ext cx="25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‘Enter 2  numbers’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Text Box 10"/>
            <p:cNvSpPr/>
            <p:nvPr/>
          </p:nvSpPr>
          <p:spPr>
            <a:xfrm>
              <a:off x="2275560" y="2602080"/>
              <a:ext cx="177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PUT A, 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2269440" y="2989440"/>
              <a:ext cx="14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 = A + 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2294640" y="3390840"/>
              <a:ext cx="127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  C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Text Box 13"/>
            <p:cNvSpPr/>
            <p:nvPr/>
          </p:nvSpPr>
          <p:spPr>
            <a:xfrm>
              <a:off x="2307960" y="36957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5" name="Text Box 14"/>
          <p:cNvSpPr/>
          <p:nvPr/>
        </p:nvSpPr>
        <p:spPr>
          <a:xfrm>
            <a:off x="304920" y="4800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iable names  takes away the need for a programmer to access memory locations using their 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108000" y="5580000"/>
            <a:ext cx="75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operating system takes care of allocating  space for the vari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380880" y="6113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refer to the value in the memory space, we need to only use the variable n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2/ </a:t>
            </a:r>
            <a:fld id="{EDEE6923-3CC3-46E6-8456-3FCB5F56089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2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onstants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a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a value whose worth never chan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5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eric / integer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5.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eric / float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lack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ng consta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acter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ariables hold constant value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2/ </a:t>
            </a:r>
            <a:fld id="{CFD3BBE7-D025-422E-8F50-D890D55C2F5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2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2017440"/>
            <a:ext cx="83455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names of variables, functions, labels, and various other user defined objects are called identif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rrect identifier nam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re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_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marks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_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s of erroneous identifi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st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h!g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...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rs can be of any convenient length, but the number of characters in a variable that are recognized by a compiler varies from compiler to compil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rs in C are case sensi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Identifier Names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2286000" y="4648320"/>
            <a:ext cx="3200400" cy="228600"/>
          </a:xfrm>
          <a:prstGeom prst="rect">
            <a:avLst/>
          </a:prstGeom>
          <a:solidFill>
            <a:srgbClr val="ebe0fc"/>
          </a:solidFill>
          <a:ln w="9360">
            <a:solidFill>
              <a:srgbClr val="ebe0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!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s inval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2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2/ </a:t>
            </a:r>
            <a:fld id="{820AD6FA-EE6D-45B6-840A-E7B38C3D1002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2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Guidelines  for Naming Identifiers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7" name="Group 11"/>
          <p:cNvGrpSpPr/>
          <p:nvPr/>
        </p:nvGrpSpPr>
        <p:grpSpPr>
          <a:xfrm>
            <a:off x="380880" y="2362320"/>
            <a:ext cx="8381880" cy="3733560"/>
            <a:chOff x="380880" y="2362320"/>
            <a:chExt cx="8381880" cy="3733560"/>
          </a:xfrm>
        </p:grpSpPr>
        <p:sp>
          <p:nvSpPr>
            <p:cNvPr id="138" name="Rectangle 4"/>
            <p:cNvSpPr/>
            <p:nvPr/>
          </p:nvSpPr>
          <p:spPr>
            <a:xfrm>
              <a:off x="380880" y="2362320"/>
              <a:ext cx="8381880" cy="533160"/>
            </a:xfrm>
            <a:prstGeom prst="rect">
              <a:avLst/>
            </a:prstGeom>
            <a:solidFill>
              <a:srgbClr val="ebe0fc"/>
            </a:solidFill>
            <a:ln w="9360">
              <a:solidFill>
                <a:srgbClr val="9c9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Variable names should begin with an alphabe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Rectangle 5"/>
            <p:cNvSpPr/>
            <p:nvPr/>
          </p:nvSpPr>
          <p:spPr>
            <a:xfrm>
              <a:off x="380880" y="3581280"/>
              <a:ext cx="8381880" cy="533520"/>
            </a:xfrm>
            <a:prstGeom prst="rect">
              <a:avLst/>
            </a:prstGeom>
            <a:solidFill>
              <a:srgbClr val="ebe0fc"/>
            </a:solidFill>
            <a:ln w="9360">
              <a:solidFill>
                <a:srgbClr val="9c9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oper names should be there while naming variable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Rectangle 6"/>
            <p:cNvSpPr/>
            <p:nvPr/>
          </p:nvSpPr>
          <p:spPr>
            <a:xfrm>
              <a:off x="380880" y="2971800"/>
              <a:ext cx="8381880" cy="533520"/>
            </a:xfrm>
            <a:prstGeom prst="rect">
              <a:avLst/>
            </a:prstGeom>
            <a:solidFill>
              <a:srgbClr val="ebe0fc"/>
            </a:solidFill>
            <a:ln w="9360">
              <a:solidFill>
                <a:srgbClr val="9c9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he first character can be followed by alphanumeric character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>
              <a:off x="380880" y="4191120"/>
              <a:ext cx="8381880" cy="533160"/>
            </a:xfrm>
            <a:prstGeom prst="rect">
              <a:avLst/>
            </a:prstGeom>
            <a:solidFill>
              <a:srgbClr val="ebe0fc"/>
            </a:solidFill>
            <a:ln w="9360">
              <a:solidFill>
                <a:srgbClr val="9c9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 variable name should be meaningful and descriptiv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Rectangle 8"/>
            <p:cNvSpPr/>
            <p:nvPr/>
          </p:nvSpPr>
          <p:spPr>
            <a:xfrm>
              <a:off x="380880" y="4800600"/>
              <a:ext cx="8381880" cy="533520"/>
            </a:xfrm>
            <a:prstGeom prst="rect">
              <a:avLst/>
            </a:prstGeom>
            <a:solidFill>
              <a:srgbClr val="ebe0fc"/>
            </a:solidFill>
            <a:ln w="9360">
              <a:solidFill>
                <a:srgbClr val="9c9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nfusing letters should be avoid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>
              <a:off x="382320" y="5410080"/>
              <a:ext cx="8380440" cy="685800"/>
            </a:xfrm>
            <a:prstGeom prst="rect">
              <a:avLst/>
            </a:prstGeom>
            <a:solidFill>
              <a:srgbClr val="ebe0fc"/>
            </a:solidFill>
            <a:ln w="9360">
              <a:solidFill>
                <a:srgbClr val="9c9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ome standard variable naming convention should be followed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while programming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2/ </a:t>
            </a:r>
            <a:fld id="{1306C270-8CF7-49E1-9FCF-A20E605488B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2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Keywords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eywords : All languages reserve certain words for their internal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eywords hold a special meaning within the context of the particula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problem of conflict as long as the keyword and the variable name can be distinguished. For example, hav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variable name is perfectly valid even though it contains the keyword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2/ </a:t>
            </a:r>
            <a:fld id="{565C4022-E021-48EA-B20B-6B72038628EB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2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Data Types-1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ypes of data are stored in variables. Some exampl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ole numbers. For example, 10 or 1789934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l numbers. For example, 15.22 or 15463452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ve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gative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ames. For example, 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ogical values. For example, Y or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09:46:25Z</dcterms:created>
  <dc:creator>radha</dc:creator>
  <dc:description/>
  <dc:language>en-US</dc:language>
  <cp:lastModifiedBy>Windows User</cp:lastModifiedBy>
  <dcterms:modified xsi:type="dcterms:W3CDTF">2016-08-16T04:09:08Z</dcterms:modified>
  <cp:revision>147</cp:revision>
  <dc:subject/>
  <dc:title>Basic Programming Concepts</dc:title>
</cp:coreProperties>
</file>