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314D1-8542-4B4B-9853-8F58E04A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E8E03-D9EE-45D1-B931-827E3A3A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235B7-CFAB-4B16-B6EF-3363D49F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A3E9D-47F5-40E6-85A4-D4D820F3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D3F64-B172-4111-88A0-BE225CE2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920" y="213840"/>
            <a:ext cx="91677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94D0D-BF7C-4466-AD7D-FA8750E5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87AEA-E383-4F7C-9005-23AB8736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BC94C-6A4D-4263-8CED-C8FB6A22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02DCE-6067-4723-8B58-888DCB19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1DB13-FC48-4C5F-8634-BB52E642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F6163-6CEE-4C5E-8D26-26DE9300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7C913-0648-4467-8614-A54E8D75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920" y="213840"/>
            <a:ext cx="91677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3/ </a:t>
            </a:r>
            <a:fld id="{D8CBDB7F-C4A6-485E-A564-8A93656B48D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91677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Operators and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ABD7-A4EE-4555-AFDB-F9AD3FB74DD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Operators and Express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DCB6-8899-4C3E-A980-A9105C312B4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perators and Express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ession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D047BD52-3B57-44BD-8731-92016EF06F8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733320" y="914400"/>
            <a:ext cx="879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Bitwise  Logical Operators-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143000" y="2058840"/>
            <a:ext cx="754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data after converting  number to its binary equivalent. (Bit wise represen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6708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95280" y="3429000"/>
          <a:ext cx="6019920" cy="3048120"/>
        </p:xfrm>
        <a:graphic>
          <a:graphicData uri="http://schemas.openxmlformats.org/drawingml/2006/table">
            <a:tbl>
              <a:tblPr/>
              <a:tblGrid>
                <a:gridCol w="2025720"/>
                <a:gridCol w="3994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 NUM1 &amp; NUM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 1 if both the  operands ar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 NUM1 | NUM2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1 if bits of either of the operand ar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 ~ NUM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rses the bits of its oper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 from 0 to 1 and 1 to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 NUM1 ^ NUM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1 if either of the bits in an operand is 1 but not b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9ED4CB75-5049-447C-BD8F-DE665BFE6B3C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57360" y="914400"/>
            <a:ext cx="879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Bitwise  Logical Operators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127160" y="2133720"/>
            <a:ext cx="70261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  <a:ea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0 &amp; 15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1010 &amp; 111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10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1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0 | 15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1010 | 111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11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1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0 ^ 15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1010 ^ 111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01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~ 1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~101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01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-1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4A4E13BA-050D-4357-B8C1-064F06302266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76320" y="2128680"/>
          <a:ext cx="9144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128680"/>
                    <a:ext cx="9144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3"/>
          <p:cNvSpPr/>
          <p:nvPr/>
        </p:nvSpPr>
        <p:spPr>
          <a:xfrm>
            <a:off x="2161440" y="852480"/>
            <a:ext cx="520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Convers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3048120" y="4562640"/>
          <a:ext cx="3514680" cy="22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562640"/>
                    <a:ext cx="3514680" cy="22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6"/>
          <p:cNvSpPr/>
          <p:nvPr/>
        </p:nvSpPr>
        <p:spPr>
          <a:xfrm>
            <a:off x="762120" y="4876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A1C8C4C9-D0A9-4D8D-9705-1EA9BBE38D23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138480" y="852480"/>
            <a:ext cx="180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Cas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200988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 expression can be forced to be of a certain type by using a cast. The general syntax of cas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(type) c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 any valid C dat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2280" y="4419720"/>
            <a:ext cx="6858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loat x,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 = 3.1415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x = (int) f; , the value of x will be 3 (inte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52760" y="3797280"/>
            <a:ext cx="5470560" cy="1894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ger value returned by (int)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nverted back to floating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it crossed the assignment operat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value of f itself is not chang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1828800" y="5257440"/>
            <a:ext cx="1523880" cy="609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6D018349-77B7-4E9E-8F3D-49D61B67B24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24080" y="914400"/>
            <a:ext cx="76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cedence Of Operators-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57200" y="1905120"/>
            <a:ext cx="86868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edence establishes the hierarchy of one set of operat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over another when an arithmetic expression is to be evalu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57200" y="26510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t refers to the order in which C evaluates opera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57200" y="32148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ecedence of the operators can be altered by enclos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the expressions in parenthe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3914640"/>
          <a:ext cx="8153280" cy="2414880"/>
        </p:xfrm>
        <a:graphic>
          <a:graphicData uri="http://schemas.openxmlformats.org/drawingml/2006/table">
            <a:tbl>
              <a:tblPr/>
              <a:tblGrid>
                <a:gridCol w="2749680"/>
                <a:gridCol w="2147760"/>
                <a:gridCol w="3255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바탕"/>
                        </a:rPr>
                        <a:t>Operator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바탕"/>
                        </a:rPr>
                        <a:t>Oper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바탕"/>
                        </a:rPr>
                        <a:t>Associa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U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- ++ 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Right to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* /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Left to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+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Left to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바탕"/>
                        </a:rPr>
                        <a:t>Right to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A36F2B0D-5A6D-4F4F-84D6-65770D2916E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" name="Group 2"/>
          <p:cNvGrpSpPr/>
          <p:nvPr/>
        </p:nvGrpSpPr>
        <p:grpSpPr>
          <a:xfrm>
            <a:off x="457200" y="2301840"/>
            <a:ext cx="8076960" cy="2955600"/>
            <a:chOff x="457200" y="2301840"/>
            <a:chExt cx="8076960" cy="2955600"/>
          </a:xfrm>
        </p:grpSpPr>
        <p:sp>
          <p:nvSpPr>
            <p:cNvPr id="194" name="WordArt 3"/>
            <p:cNvSpPr txBox="1"/>
            <p:nvPr/>
          </p:nvSpPr>
          <p:spPr>
            <a:xfrm>
              <a:off x="838080" y="2339640"/>
              <a:ext cx="21621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Example :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95" name="WordArt 4"/>
            <p:cNvSpPr txBox="1"/>
            <p:nvPr/>
          </p:nvSpPr>
          <p:spPr>
            <a:xfrm>
              <a:off x="4267080" y="2301840"/>
              <a:ext cx="3505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-8 * 4 % 2 - 3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96" name="Picture 5" descr="op"/>
            <p:cNvPicPr/>
            <p:nvPr/>
          </p:nvPicPr>
          <p:blipFill>
            <a:blip r:embed="rId1"/>
            <a:stretch/>
          </p:blipFill>
          <p:spPr>
            <a:xfrm>
              <a:off x="457200" y="3406680"/>
              <a:ext cx="8076960" cy="185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6"/>
          <p:cNvSpPr/>
          <p:nvPr/>
        </p:nvSpPr>
        <p:spPr>
          <a:xfrm>
            <a:off x="1263960" y="914400"/>
            <a:ext cx="76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cedence Of Operators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E3AEAA84-4A34-4D42-900E-0AE38C4F2C0E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27000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ecedence between comparison Operat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914400" y="2590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Always evaluated from left to r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1295280" y="3352680"/>
            <a:ext cx="6248520" cy="1752840"/>
          </a:xfrm>
          <a:custGeom>
            <a:avLst/>
            <a:gdLst>
              <a:gd name="textAreaLeft" fmla="*/ 976320 w 6248520"/>
              <a:gd name="textAreaRight" fmla="*/ 5467680 w 6248520"/>
              <a:gd name="textAreaTop" fmla="*/ 438120 h 1752840"/>
              <a:gd name="textAreaBottom" fmla="*/ 1314720 h 1752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F298EF57-7F9B-460C-958A-26993CF7875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ecedence for Logic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perators-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295280" y="1981080"/>
          <a:ext cx="6172200" cy="2590920"/>
        </p:xfrm>
        <a:graphic>
          <a:graphicData uri="http://schemas.openxmlformats.org/drawingml/2006/table">
            <a:tbl>
              <a:tblPr/>
              <a:tblGrid>
                <a:gridCol w="3281400"/>
                <a:gridCol w="28908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Preced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Oper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68"/>
          <p:cNvSpPr/>
          <p:nvPr/>
        </p:nvSpPr>
        <p:spPr>
          <a:xfrm>
            <a:off x="184320" y="47422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Times New Roman"/>
              </a:rPr>
              <a:t>When multiple instances of a logical operator are used in a condition, they are evaluated from right to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21EA9DE4-51AA-42F2-BA8F-072C6BBF5665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0" y="2039760"/>
            <a:ext cx="9448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der the following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False OR True AND NOT False AND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ondition gets evaluated as shown below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False OR True AND [NOT False] AND Tru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T has the highest preced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False OR True AND [True AND True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is the operator of the highest precedence and operators of the same precedence are evaluated from right to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False OR [True AND True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[False OR True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ahoma"/>
                <a:ea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0" y="243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ecedence for Logic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perators-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E8BE8178-75FF-4EA4-BB82-2F3755B9F662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600200" y="3276720"/>
          <a:ext cx="5943600" cy="3108240"/>
        </p:xfrm>
        <a:graphic>
          <a:graphicData uri="http://schemas.openxmlformats.org/drawingml/2006/table">
            <a:tbl>
              <a:tblPr/>
              <a:tblGrid>
                <a:gridCol w="3160800"/>
                <a:gridCol w="27828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Precedenc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Type of Operato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ithmeti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is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c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20"/>
          <p:cNvSpPr/>
          <p:nvPr/>
        </p:nvSpPr>
        <p:spPr>
          <a:xfrm>
            <a:off x="304920" y="192060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an equation uses more than one type of operator then the order of precedence has to be established with the different types of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Precedence among Operators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7CA847C7-472D-4B5E-A5A2-96AE79968327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703960" y="852480"/>
            <a:ext cx="33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0440" y="2013120"/>
            <a:ext cx="9254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xplain Assignment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 Arithmetic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xplain Relational and Logical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 Bitwise logical operators and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xplain ca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Understand Precedence of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B5154870-F904-49AA-B747-63307431F72F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Precedence among Operators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304920" y="221184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der the following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2*3+4/2 &gt; 3 AND 3&lt;5 OR 10&lt;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valuation is as sh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[2*3+4/2] &gt; 3 AND 3&lt;5 OR 10&lt;9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the arithmetic operators are dealt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[[2*3]+[4/2]] &gt; 3 AND 3&lt;5 OR 10&lt;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[6+2] &gt;3 AND 3&lt;5 OR 10&lt;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[8 &gt;3] AND [3&lt;5] OR [10&lt;9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78E1DE29-54BF-433F-B949-83AE4A183FB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09480" y="198108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xt to be evaluated are the comparison operators all of which have the same precedence and so are evaluated from left to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Times New Roman"/>
              </a:rPr>
              <a:t>True AND True OR Fal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ast to be evaluated are the logical operators. AND takes precedence over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Times New Roman"/>
              </a:rPr>
              <a:t>[True AND True] OR Fals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Times New Roman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  <a:ea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Precedence among Operators-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107B48A6-465B-468E-A248-D2B11335FB18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219320" y="6094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Changing Precedence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6094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Parenthesis ( ) has the highest level of preced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ecedence of operators can be modified using parenthesis ( 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or of lower precedence with parenthesis assume highest precedence and gets executed firs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In case of nested Parenthesis ( ( ( ) ) )  the inner most parenthesis gets evaluated firs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An expression consisting of many set of parenthesis  gets processed from left to righ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B5C7CDE3-E6C5-4BBF-B340-4FF178890D56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57200" y="1066680"/>
            <a:ext cx="8305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2178360"/>
            <a:ext cx="891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der the following exampl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5+9*3^2-4 &gt; 10 AND (2+2^4-8/4 &gt; 6 OR (2&lt;6 AND 10&gt;11)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3094560"/>
            <a:ext cx="967752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olution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Times New Roman"/>
              </a:rPr>
              <a:t>1. 5+9*3^2-4 &gt; 10 AND (2+2^4-8/4 &gt; 6 OR (True AND False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ner parenthesis takes precedence over all other operators and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valuation within this is as per the regular conven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5+9*3^2-4 &gt; 10 AND (2+2^4-8/4 &gt; 6 OR Fal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705720" y="5715000"/>
            <a:ext cx="2133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219320" y="6094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Changing Precedence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28B8D8E0-B483-4F08-A0E7-9EDB164C757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1066680"/>
            <a:ext cx="8305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47760" y="2209680"/>
            <a:ext cx="94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3.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5+9*3^2-4 &gt;10 AND (2+16-8/4 &gt; 6 OR False)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xt the outer parentheses is evaluate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80880" y="3352680"/>
            <a:ext cx="843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4.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5+9*3^2-4 &gt; 10 AND (2+16-2 &gt; 6 OR Fal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5.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5+9*3^2-4 &gt; 10 AND (18-2 &gt; 6 OR Fal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6.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5+9*3^2-4 &gt; 10 AND (16 &gt; 6 OR Fal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5+9*3^2-4 &gt; 10 AND (True OR Fal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.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5+9*3^2-4 &gt; 10 AND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219320" y="6094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Changing Precedence-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C85D6A28-B8C8-421D-BA20-A68FD24AE317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27120" y="2436120"/>
            <a:ext cx="882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9.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5+9*9-4&gt;10 AND Tr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pression to the left is evaluated as per the conven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0.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5+81-4&gt;10 AND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1.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86-4&gt;10 AND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2.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82&gt;10 AND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3.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True AND 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4.</a:t>
            </a:r>
            <a:r>
              <a:rPr b="0" lang="en-US" sz="2800" spc="-1" strike="noStrike">
                <a:solidFill>
                  <a:srgbClr val="99ff66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  <a:ea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57200" y="1066680"/>
            <a:ext cx="83059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219320" y="6094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Changing Precedence-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4F9F4365-0240-4419-94BC-1D74DFF404B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038960" y="852480"/>
            <a:ext cx="519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80880" y="1873080"/>
            <a:ext cx="853452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ation of Operators and Oper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1550f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Example</a:t>
            </a:r>
            <a:r>
              <a:rPr b="1" lang="en-US" sz="6600" spc="-1" strike="noStrike">
                <a:solidFill>
                  <a:srgbClr val="f1550f"/>
                </a:solidFill>
                <a:latin typeface="Tahoma"/>
                <a:ea typeface="Times New Roman"/>
              </a:rPr>
              <a:t> </a:t>
            </a:r>
            <a:r>
              <a:rPr b="1" lang="en-US" sz="6600" spc="-1" strike="noStrike">
                <a:solidFill>
                  <a:srgbClr val="f1550f"/>
                </a:solidFill>
                <a:latin typeface="Times New Roman"/>
                <a:ea typeface="Times New Roman"/>
              </a:rPr>
              <a:t>   2 * y + 5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5470560" y="240336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2590920" y="4297320"/>
            <a:ext cx="7617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13"/>
          <p:cNvSpPr/>
          <p:nvPr/>
        </p:nvSpPr>
        <p:spPr>
          <a:xfrm flipH="1">
            <a:off x="3352680" y="455760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14"/>
          <p:cNvSpPr/>
          <p:nvPr/>
        </p:nvSpPr>
        <p:spPr>
          <a:xfrm flipH="1">
            <a:off x="3352680" y="429732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209680" y="579132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Opera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6"/>
          <p:cNvSpPr/>
          <p:nvPr/>
        </p:nvSpPr>
        <p:spPr>
          <a:xfrm flipV="1">
            <a:off x="3505320" y="315396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17"/>
          <p:cNvSpPr/>
          <p:nvPr/>
        </p:nvSpPr>
        <p:spPr>
          <a:xfrm flipV="1">
            <a:off x="4648320" y="3153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5410080" y="2819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imes New Roman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8D7651FE-FBF4-41A1-882B-5380AA52DD2B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899640" y="358920"/>
            <a:ext cx="803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ssignment Operato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023840" y="3086280"/>
            <a:ext cx="709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ariable_name = expression;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4495680" y="2895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066680" y="3581280"/>
            <a:ext cx="7543800" cy="2438280"/>
            <a:chOff x="1066680" y="3581280"/>
            <a:chExt cx="7543800" cy="2438280"/>
          </a:xfrm>
        </p:grpSpPr>
        <p:sp>
          <p:nvSpPr>
            <p:cNvPr id="120" name="Line 5"/>
            <p:cNvSpPr/>
            <p:nvPr/>
          </p:nvSpPr>
          <p:spPr>
            <a:xfrm flipH="1">
              <a:off x="1904760" y="3733560"/>
              <a:ext cx="990360" cy="9144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6095880" y="3657240"/>
              <a:ext cx="990720" cy="9144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>
              <a:off x="4952880" y="3581280"/>
              <a:ext cx="0" cy="106668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WordArt 8"/>
            <p:cNvSpPr txBox="1"/>
            <p:nvPr/>
          </p:nvSpPr>
          <p:spPr>
            <a:xfrm>
              <a:off x="1066680" y="4800240"/>
              <a:ext cx="1495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lvalue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7115040" y="4800240"/>
              <a:ext cx="1495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rvalue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5" name="WordArt 11"/>
            <p:cNvSpPr txBox="1"/>
            <p:nvPr/>
          </p:nvSpPr>
          <p:spPr>
            <a:xfrm>
              <a:off x="3657600" y="4724280"/>
              <a:ext cx="29336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Assignment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operator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6" name="Text Box 12"/>
          <p:cNvSpPr/>
          <p:nvPr/>
        </p:nvSpPr>
        <p:spPr>
          <a:xfrm>
            <a:off x="76320" y="838080"/>
            <a:ext cx="921996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e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gnment operator(=) can be used with any valid C expres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092960" y="55944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Lef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7116840" y="556272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Righ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E8EFC172-B068-407C-84A2-6842D5EEDAA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557360" y="380880"/>
            <a:ext cx="65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ple Assignmen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214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e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ny variables can be assigned the same value in a single stat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838080" y="3352680"/>
            <a:ext cx="5715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a = b = c = 10;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10280" y="2514600"/>
            <a:ext cx="1471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1550f"/>
                </a:solidFill>
                <a:latin typeface="Wingdings"/>
                <a:ea typeface="Wingdings"/>
              </a:rPr>
              <a:t></a:t>
            </a:r>
            <a:endParaRPr b="0" lang="en-US" sz="1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52280" y="4267080"/>
            <a:ext cx="85345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owever, you cannot do this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380880" y="4952880"/>
            <a:ext cx="6629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 a = int b = int b = int c = 10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7467480" y="4800600"/>
            <a:ext cx="1067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X</a:t>
            </a:r>
            <a:endParaRPr b="1" lang="en-US" sz="8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9B933B47-F545-4ADE-838D-17D1E600CDE3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2634120" y="380880"/>
            <a:ext cx="328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o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-76320" y="11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609480" y="2590920"/>
            <a:ext cx="3505320" cy="9903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2916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Arithme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33520" y="4624560"/>
            <a:ext cx="3504960" cy="990360"/>
          </a:xfrm>
          <a:custGeom>
            <a:avLst/>
            <a:gdLst>
              <a:gd name="textAreaLeft" fmla="*/ 876240 w 3504960"/>
              <a:gd name="textAreaRight" fmla="*/ 2628720 w 3504960"/>
              <a:gd name="textAreaTop" fmla="*/ 2916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5257800" y="2590920"/>
            <a:ext cx="3505320" cy="9903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2916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Log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5334120" y="4648320"/>
            <a:ext cx="3504960" cy="990360"/>
          </a:xfrm>
          <a:custGeom>
            <a:avLst/>
            <a:gdLst>
              <a:gd name="textAreaLeft" fmla="*/ 876240 w 3504960"/>
              <a:gd name="textAreaRight" fmla="*/ 2628720 w 3504960"/>
              <a:gd name="textAreaTop" fmla="*/ 2916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Bitw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B5700EFB-33C2-4611-AE94-A0F27B40CC0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383120" y="838080"/>
            <a:ext cx="720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Arithmetic Expression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28600" y="1996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hematical expressions can be expressed in C using arithmetic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380880" y="306216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1219320" y="5181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Times New Roman"/>
              </a:rPr>
              <a:t>a * (b + c/d)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1219320" y="3657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++i %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1219320" y="43434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5 + (c = 3 + 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0C18D26F-37A6-439A-B1AE-52C72F6DA67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92240" y="152280"/>
            <a:ext cx="879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al &amp; Logical Operators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28600" y="27115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Times New Roman"/>
              </a:rPr>
              <a:t>Test the relationship between two variables, or between a  variable and a co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9" descr="untitled"/>
          <p:cNvPicPr/>
          <p:nvPr/>
        </p:nvPicPr>
        <p:blipFill>
          <a:blip r:embed="rId1"/>
          <a:stretch/>
        </p:blipFill>
        <p:spPr>
          <a:xfrm>
            <a:off x="762120" y="4397400"/>
            <a:ext cx="8381880" cy="1927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7451640" y="38160"/>
            <a:ext cx="62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590040" y="198108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36480" y="3595680"/>
            <a:ext cx="38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al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3/ </a:t>
            </a:r>
            <a:fld id="{C5A7CA2B-221C-4CE5-BAB5-9D039B945B07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5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228600" y="2149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Logical operators are symbols that are used to combine or negate expressions containing relational op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07880" y="76320"/>
            <a:ext cx="835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al &amp; Logical Operators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5" descr="untitled"/>
          <p:cNvPicPr/>
          <p:nvPr/>
        </p:nvPicPr>
        <p:blipFill>
          <a:blip r:embed="rId1"/>
          <a:stretch/>
        </p:blipFill>
        <p:spPr>
          <a:xfrm>
            <a:off x="228600" y="3352680"/>
            <a:ext cx="8610480" cy="1447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228600" y="5653080"/>
            <a:ext cx="868680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ions that use logical operators return zero for false, and 1 for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84582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257560" y="4815000"/>
            <a:ext cx="50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f (a&gt;10) &amp;&amp; (a&lt;2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4:09:45Z</dcterms:created>
  <dc:creator>Amit Shindore</dc:creator>
  <dc:description/>
  <dc:language>en-US</dc:language>
  <cp:lastModifiedBy>Windows User</cp:lastModifiedBy>
  <dcterms:modified xsi:type="dcterms:W3CDTF">2016-03-02T10:28:25Z</dcterms:modified>
  <cp:revision>384</cp:revision>
  <dc:subject/>
  <dc:title>PowerPoint Presentation</dc:title>
</cp:coreProperties>
</file>